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380880" y="6248520"/>
            <a:ext cx="8534520" cy="380880"/>
            <a:chOff x="380880" y="6248520"/>
            <a:chExt cx="8534520" cy="380880"/>
          </a:xfrm>
        </p:grpSpPr>
        <p:sp>
          <p:nvSpPr>
            <p:cNvPr id="3" name=""/>
            <p:cNvSpPr/>
            <p:nvPr/>
          </p:nvSpPr>
          <p:spPr>
            <a:xfrm>
              <a:off x="5562360" y="6248520"/>
              <a:ext cx="3353040" cy="380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99"/>
                  </a:solidFill>
                  <a:latin typeface="Arial"/>
                </a:rPr>
                <a:t>Key Stage 3</a:t>
              </a:r>
              <a:r>
                <a:rPr b="1" i="1" lang="en-GB" sz="18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i="1" lang="en-GB" sz="1800" spc="-1" strike="noStrike">
                  <a:solidFill>
                    <a:srgbClr val="003399"/>
                  </a:solidFill>
                  <a:latin typeface="Arial"/>
                </a:rPr>
                <a:t>National Strateg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80880" y="6440400"/>
              <a:ext cx="5195880" cy="2880"/>
            </a:xfrm>
            <a:custGeom>
              <a:avLst/>
              <a:gdLst/>
              <a:ahLst/>
              <a:rect l="l" t="t" r="r" b="b"/>
              <a:pathLst>
                <a:path w="3273" h="2">
                  <a:moveTo>
                    <a:pt x="0" y="0"/>
                  </a:moveTo>
                  <a:lnTo>
                    <a:pt x="3272" y="1"/>
                  </a:lnTo>
                </a:path>
              </a:pathLst>
            </a:custGeom>
            <a:noFill/>
            <a:ln cap="rnd"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09640" y="1495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Key Stage 3 </a:t>
            </a:r>
            <a:r>
              <a:rPr b="1" i="1" lang="en-GB" sz="3200" spc="-1" strike="noStrike">
                <a:solidFill>
                  <a:srgbClr val="ffff00"/>
                </a:solidFill>
                <a:latin typeface="Arial"/>
              </a:rPr>
              <a:t>National Strate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27280" y="2668680"/>
            <a:ext cx="5819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cientific enqui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c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ask D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ork in pairs on one of the following investigations, 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other of your choi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affects photosynthesis?’ (linked to QCA unit 9C ‘Plants and photosynthesis’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affects solubility?’ (linked to QCA unit 7H ‘Solutions’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affects rusting or corrosion?’ (linked to QCA unit 9F ‘Patterns of  reactivity’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can friction be reduced?’ (linked to QCA unit 9K ‘Speeding up’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st complete the planning poster, then work throug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other two pos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Slide 2.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tracts from the programmes of stud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Key Stage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upils should be taught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ke sufficient relevant observations and measurements to reduce error and obtain reliable evidence (Sc1/2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Key Stage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upils should be taught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eck observations and measurements by repeating them where appropriate (Sc1/2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Slide 2.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Possible objectiv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know how to take repeat readings and calculate the average (me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understand the purpose of taking repeat rea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Slide 2.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Plenary for session 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y the end of the session participants shoul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 clearer about what constitutes an appropriate lesson objective for scientific enquiry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 clearer on the value of using the yearly teaching objectives for scientific enquiry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ave considered some ideas on how to teach scientific enquiry skills and processes explicit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Slide 2.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Objective for session 3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clarify what type of enquiry activities and investigations are required in Key Stage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eadth of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During the key stage, pupils should be tau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the knowledge, skills and understand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throug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using first-hand and secondary data to carry out a range of scientific investigations, including complete investigations (1e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Slide 3.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ypes of scientific enquiry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rveys and correlations (pattern seek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ing secondary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trolling variables (fair tes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dentification and class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ing and evaluating a techni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ing experimental models and analogies to explore an explanation, hypothesis or the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Slide 3.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ask F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ork in pai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trieve handout 3.4 and a set of cards, e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f which has a single ques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locate the cards to the most appropri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tegory of enquiry on handout 3.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ny which are difficult to allocate, place in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ox labelled ‘Other’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 prepared to offer feedba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Slide 3.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Using different types of enquiry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re pupils given opportunities, throughout the key stage, to be taught and to carry out all these types of investig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re there particular types of investigation I need to use more in my teach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re pupils given opportunities to think about different types of scientific question and how they could be investigat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Slide 3.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ask G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ork in pai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andout 3.7 lists some topics taught dur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ey Stage 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ginning with topics which come most eas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mind, identify a question which could lead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n enquiry of a sort other than a fair t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cord the question and the type of enqui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plete as many as you can in 7 or 8 minut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Slide 3.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Ideas and evidenc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ssion 4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deas and evidence in Key Stage 3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c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ssion 5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me strategies for teaching about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deas and evi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ssion 6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ow scientists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ssion 7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clusions and follow-up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Slide 4.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cientific enquiry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ssion 1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troduction to scientific enqui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ssion 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eaching scientific enquiry skills and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cesses explici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ssion 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ypes of scientific enqui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ssion 4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deas and evidence in Key Stage 3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c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ssion 5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 strategies for teaching about idea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evi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ssion 6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scientists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ssion 7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clusions and follow-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Slide 1.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Objective for session 4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clarify what pupils should be taught in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ey Stage 3 about ideas and evi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Slide 4.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ask H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orking individually, write a brief description of sci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sten to Lewis Wolpert’s view on the nature of sci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view your definition. Make any changes you wis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 your definition with another participant’s.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simil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ive feedback on significant points or words. How cou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 should these influence science teaching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ey Stage 3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Slide 4.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interplay between ideas and evidenc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2133720"/>
            <a:ext cx="5486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oretical wor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or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ypo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28954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28800" y="2057400"/>
            <a:ext cx="579132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05120" y="4572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mpirical evidenc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di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mpirical wor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4495680"/>
            <a:ext cx="579132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438280" y="34290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53080" y="33526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Slide 4.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648320" y="4800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59000" y="5791320"/>
            <a:ext cx="300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ed on the work of Robin Dunb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efinition of term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mpirical ques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question based on observation, not on the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ypoth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tentative explanation of a phenomenon based on y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ledge and understanding or arising from empiric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vi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ientific expla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generally accepted explanation of a phenomen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ing all the available evidence; the explanation may 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sidered scientifically accurate at the time but fur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vidence may come to light which means that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planation is not fully corr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6553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Slide 4.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ask I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ork in groups of three or fo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ad through the extracts of the programme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udy for ideas and evidence at the start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andout 4.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n the level descriptions highlight any phr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r sentences which refer to ideas and evid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You will be asked to comment briefly on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aching necessary to achieve progression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deas and evid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Slide 4.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Plenary for session 4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the end of the session participants shoul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 clearer about what the programme of study and level descriptions mean for ideas and evidenc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ve considered how science teaching in Key    Stage 3 reflects their own views of what science i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 beginning to review where in the scheme of work aspects of ideas and evidence are already met or could be m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Slide 4.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Objectives for session 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understand the central role of evidence and thus why teaching and learning about ideas and evidence are impor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provide a range of strategies to teach pupils about ideas and evi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Slide 5.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Plenary for session 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y the end of the session participants shoul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 clearer about the importance of pupils learning about evidence and how it is used to refine hypotheses and support explanation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ave some strategies to teach pupils about evidence and its import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Slide 5.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Objective for session 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review how scientists work and what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ey Stage 3 pupils should be taught about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Slide 6.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ask 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ork in groups of thre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ad handout 6.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wo participants read and sequence the car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‘observer’ records the discussion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andout 6.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op after 5 minutes and review handout 6.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ow far has the activity allowed you to meet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wo objectiv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Slide 6.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Objectives for the unit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 of 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clarify the nature and extent of scientific enquiry, including ideas and evi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emphasise the need to teach scientific enquiry explicitly, using appropriate objectives, and drawing on the Framework yearly teaching objec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clarify how specific skills and processes of scientific enquiry can be taught within the context of practical and enquiry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616428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Slide 1.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Plenary for session 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y the end of this session participants shoul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 clearer about how pupils can be taught how scientists work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 clearer on the objectives for such lesson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gin to recognise that there are many opportunities for teaching pupils how scientists work and that teachers can choose which of these to make use of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Slide 6.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Objective for session 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determine priorities and actions for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llow-up in 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Slide 7.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Objectives for the unit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2 of 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explain the central role of evidence and thus why learning and teaching about ideas and evidence is impor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provide a range of strategies about how to teach pupils about ideas and evidence and how scientists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determine priorities and actions for follow-up in 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Slide 1.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Objectives for session 1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clarify the nature and extent of scientific enqui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clarify the need to teach explicitly the skills and processes of Sc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clarify progression in teaching scientific enquiry as exemplified in the Framework yearly teaching objec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Slide 1.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demand of an enquiry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472428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3581280"/>
            <a:ext cx="2438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28195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3886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1008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10080" y="3886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2286000"/>
            <a:ext cx="167652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crea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cedu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m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52880" y="4952880"/>
            <a:ext cx="30481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crea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ceptual dem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Slide 1.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809880" y="2285640"/>
            <a:ext cx="0" cy="2438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029200" y="2438280"/>
            <a:ext cx="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llustrating progression in scientific enqui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Slide 1.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85800" y="2209320"/>
            <a:ext cx="1600200" cy="3048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4648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5257800"/>
            <a:ext cx="6248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934320" y="1905120"/>
            <a:ext cx="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934320" y="3733920"/>
            <a:ext cx="144756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6933960" y="1905120"/>
            <a:ext cx="144756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4191120"/>
            <a:ext cx="5715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52480" y="3200400"/>
            <a:ext cx="5181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0520" y="2209680"/>
            <a:ext cx="431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dural understan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nning an investigation using skil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an idea of the evidence requir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58360" y="3352680"/>
            <a:ext cx="367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cepts of evid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evance, accuracy, reli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57280" y="4267080"/>
            <a:ext cx="449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ic skil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example, using instruments 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pment, drawing tables and graph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9800" y="350532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es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7280" y="5595840"/>
            <a:ext cx="713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ed on ideas developed by Richard Gott, Sandra Duggan and others at Durham University, websit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dur.ac.uk/~ded0www/evidence_main1.ht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Plenary for session 1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the end of the session participants shoul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 clear about the structure of the uni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cognise the need to teach explicitly the skills and processes of scientific enquiry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 clearer on the structure and potential use of the Framework yearly teaching objectives for scientific enquiry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ve considered some ways of determining the level of demand of an enquiry and how this might affect how enquiries are structured and introduced, and pupils suppor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Slide 1.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Objectives for session 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clarify how lesson objectives appropriate for scientific enquiry can be drawn from the yearly teaching objec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clarify how specific skills and processes of scientific enquiry can be taught within the context of practical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Slide 2.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3T09:52:22Z</dcterms:created>
  <dc:creator>CUP</dc:creator>
  <dc:description/>
  <dc:language>en-US</dc:language>
  <cp:lastModifiedBy>Diana Gillooly, CUP</cp:lastModifiedBy>
  <dcterms:modified xsi:type="dcterms:W3CDTF">2002-06-21T09:40:10Z</dcterms:modified>
  <cp:revision>17</cp:revision>
  <dc:subject/>
  <dc:title>Key Stage 3 National  Strategy</dc:title>
</cp:coreProperties>
</file>