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621588" cy="66484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7BB0-F121-465D-A452-B7C53BCA0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4264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DD3B-A559-419D-B346-2B5907E4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5F37-2176-4D0A-AF01-FA5978E45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8B82-99C7-455E-A4B6-C0639F689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036A-7D64-4FA3-B85B-D3B290FB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83AE-F7E7-4FC3-980C-3CFFEC5C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F4DB-40EC-4E4D-A797-3F72F104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E33E-4A86-4569-8AAE-C3D4F6E0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66760"/>
            <a:ext cx="6858000" cy="51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290C-4382-424D-AF38-027254AF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DBC6-15C0-4EE5-B9DC-3A93DEE7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6684-4224-412B-9F0F-2E5AAD3B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9EB2-694C-4AE6-9714-32CE4F58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054480"/>
            <a:ext cx="17780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054480"/>
            <a:ext cx="24130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054480"/>
            <a:ext cx="17780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A2B3-5931-4E05-8808-88B08AD48BA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00" y="428760"/>
            <a:ext cx="7410600" cy="0"/>
          </a:xfrm>
          <a:prstGeom prst="line">
            <a:avLst/>
          </a:prstGeom>
          <a:ln w="38160">
            <a:solidFill>
              <a:srgbClr val="4b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108920" y="12600"/>
            <a:ext cx="584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4b0082"/>
                </a:solidFill>
                <a:latin typeface="Trebuchet MS"/>
              </a:rPr>
              <a:t>L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680" y="3317760"/>
            <a:ext cx="770904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How could you describe the transformations that are needed to make all of the other diagram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Are there several possibilities for any of th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800080"/>
                </a:solidFill>
                <a:latin typeface="Trebuchet MS"/>
              </a:rPr>
              <a:t>[Eg the first one could be a rotation of the original shape through 180° , 360° , 540°  etc, or a reflection in a vertical or horizontal line, or an enlargement scale factor 1 ...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523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0080"/>
                </a:solidFill>
                <a:latin typeface="Trebuchet MS"/>
              </a:rPr>
              <a:t>Teacher's Notes  </a:t>
            </a:r>
            <a:r>
              <a:rPr b="1" lang="en-GB" sz="1500" spc="-1" strike="noStrike">
                <a:solidFill>
                  <a:srgbClr val="800080"/>
                </a:solidFill>
                <a:latin typeface="Trebuchet MS"/>
              </a:rPr>
              <a:t>Topic: </a:t>
            </a:r>
            <a:r>
              <a:rPr b="0" lang="en-GB" sz="1500" spc="-1" strike="noStrike">
                <a:solidFill>
                  <a:srgbClr val="4b0082"/>
                </a:solidFill>
                <a:latin typeface="Trebuchet MS"/>
              </a:rPr>
              <a:t>SSM - Transform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7000" y="0"/>
            <a:ext cx="147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Tur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65240" y="479520"/>
            <a:ext cx="4576680" cy="2759040"/>
            <a:chOff x="165240" y="479520"/>
            <a:chExt cx="4576680" cy="275904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392040" y="2284560"/>
              <a:ext cx="4349880" cy="95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1560600" y="663480"/>
              <a:ext cx="48420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65240" y="1450800"/>
              <a:ext cx="37083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I turn the shape through</a:t>
              </a:r>
              <a:r>
                <a:rPr b="1" lang="en-GB" sz="1000" spc="-1" strike="noStrike">
                  <a:solidFill>
                    <a:srgbClr val="000000"/>
                  </a:solidFill>
                  <a:latin typeface="Trebuchet MS"/>
                </a:rPr>
                <a:t> 45° clockwise</a:t>
              </a: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Tick the diagram that shows the shape </a:t>
              </a:r>
              <a:r>
                <a:rPr b="1" lang="en-GB" sz="1000" spc="-1" strike="noStrike">
                  <a:solidFill>
                    <a:srgbClr val="000000"/>
                  </a:solidFill>
                  <a:latin typeface="Trebuchet MS"/>
                </a:rPr>
                <a:t>after</a:t>
              </a: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 the turn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03040" y="479520"/>
              <a:ext cx="12319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Here is a shap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1800" y="0"/>
            <a:ext cx="147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Tur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8280" y="393840"/>
            <a:ext cx="167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Here is a shap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400" y="1774800"/>
            <a:ext cx="511812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I turn the shape through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 45° clockwise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Tick the diagram that shows the shape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after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the tur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62000" y="628560"/>
            <a:ext cx="676440" cy="924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33360" y="2924280"/>
            <a:ext cx="606744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11:38:17Z</dcterms:created>
  <dc:creator>MDawes</dc:creator>
  <dc:description/>
  <dc:language>en-US</dc:language>
  <cp:lastModifiedBy>MDawes</cp:lastModifiedBy>
  <dcterms:modified xsi:type="dcterms:W3CDTF">2007-07-04T11:38:18Z</dcterms:modified>
  <cp:revision>1</cp:revision>
  <dc:subject/>
  <dc:title>Slide 1</dc:title>
</cp:coreProperties>
</file>