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621588" cy="6648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840E-B03E-4B21-B4A8-14D389448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4264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66F3-AD31-48E2-8CCF-E8AB096E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88DE-BC9E-482A-A87B-5026DAFEF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6857-C633-4235-A936-881D73F4B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8123-5967-4B3A-A409-586C185E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417E-C2BB-46B6-9291-5629ACBF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A447-834F-4B42-BD10-9D80E5B6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754B-495A-4D70-963A-1D9FBFFB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66760"/>
            <a:ext cx="6858000" cy="51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05BC-BD8F-4E4D-8495-149AB22C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CD02-ED3E-421C-9236-76314526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F0CC-99EE-4DC4-A271-A275CF1B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4983-8610-46A7-A4B3-A1528F24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054480"/>
            <a:ext cx="17780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054480"/>
            <a:ext cx="24130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054480"/>
            <a:ext cx="17780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6867-7387-4F16-A5BC-276999CBF8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00" y="428760"/>
            <a:ext cx="741060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08920" y="12600"/>
            <a:ext cx="584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4b0082"/>
                </a:solidFill>
                <a:latin typeface="Trebuchet MS"/>
              </a:rPr>
              <a:t>L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9200" y="4041720"/>
            <a:ext cx="67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What is special about triangle ABC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If we just have points A and C what rectangles can we ma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9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0080"/>
                </a:solidFill>
                <a:latin typeface="Trebuchet MS"/>
              </a:rPr>
              <a:t>Teacher's Notes  </a:t>
            </a:r>
            <a:r>
              <a:rPr b="1" lang="en-GB" sz="1500" spc="-1" strike="noStrike">
                <a:solidFill>
                  <a:srgbClr val="800080"/>
                </a:solidFill>
                <a:latin typeface="Trebuchet MS"/>
              </a:rPr>
              <a:t>Topic: </a:t>
            </a:r>
            <a:r>
              <a:rPr b="0" lang="en-GB" sz="1500" spc="-1" strike="noStrike">
                <a:solidFill>
                  <a:srgbClr val="4b0082"/>
                </a:solidFill>
                <a:latin typeface="Trebuchet MS"/>
              </a:rPr>
              <a:t>Co-or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84320" y="546120"/>
            <a:ext cx="3898800" cy="3076560"/>
            <a:chOff x="184320" y="546120"/>
            <a:chExt cx="3898800" cy="3076560"/>
          </a:xfrm>
        </p:grpSpPr>
        <p:sp>
          <p:nvSpPr>
            <p:cNvPr id="46" name=""/>
            <p:cNvSpPr/>
            <p:nvPr/>
          </p:nvSpPr>
          <p:spPr>
            <a:xfrm>
              <a:off x="222120" y="3193920"/>
              <a:ext cx="3861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(b)  Point D can be marked so that ABCD is a </a:t>
              </a:r>
              <a:r>
                <a:rPr b="1" lang="en-GB" sz="1100" spc="-1" strike="noStrike">
                  <a:solidFill>
                    <a:srgbClr val="000000"/>
                  </a:solidFill>
                  <a:latin typeface="Trebuchet MS"/>
                </a:rPr>
                <a:t>rectangle</a:t>
              </a: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Mark point D accurately on the graph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03040" y="2670120"/>
              <a:ext cx="35179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(a)  Write down the coordinates of points A and C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84320" y="546120"/>
              <a:ext cx="14032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Look at the grap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4937040" y="0"/>
            <a:ext cx="205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Coordin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33400" y="523800"/>
            <a:ext cx="214812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1800" y="0"/>
            <a:ext cx="205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Coordin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8280" y="450720"/>
            <a:ext cx="1879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Look at the grap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3040" y="4308480"/>
            <a:ext cx="4775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(a)  Write down the coordinates of points A and 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3040" y="4689360"/>
            <a:ext cx="52516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(b)  Point D can be marked so that ABCD is a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rectangle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Mark point D accurately on the grap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85840" y="324000"/>
            <a:ext cx="385776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11:38:44Z</dcterms:created>
  <dc:creator>MDawes</dc:creator>
  <dc:description/>
  <dc:language>en-US</dc:language>
  <cp:lastModifiedBy>MDawes</cp:lastModifiedBy>
  <dcterms:modified xsi:type="dcterms:W3CDTF">2007-07-04T11:38:45Z</dcterms:modified>
  <cp:revision>1</cp:revision>
  <dc:subject/>
  <dc:title>Slide 1</dc:title>
</cp:coreProperties>
</file>