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6343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668-9E37-4813-A1F2-7A0658CE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685800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666600"/>
            <a:ext cx="685800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EF86-B978-45E2-9B06-45032715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3346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79240"/>
            <a:ext cx="3346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666600"/>
            <a:ext cx="3346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666600"/>
            <a:ext cx="3346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30B-3DC5-484B-96C6-DC2DA780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220788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79240"/>
            <a:ext cx="220788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79240"/>
            <a:ext cx="220788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666600"/>
            <a:ext cx="220788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666600"/>
            <a:ext cx="220788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666600"/>
            <a:ext cx="220788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473-68BB-43AC-B7B9-612684EBB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79240"/>
            <a:ext cx="68580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ABA3-2247-4E7C-A2C2-2D65A314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6858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BF5-D510-461F-9853-C4D0CC85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33465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79240"/>
            <a:ext cx="33465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91B-3A65-4FBD-AB63-5860827E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1BB-1130-442B-83C7-D8FE5515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4160"/>
            <a:ext cx="685800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38B-BA03-4C6D-839F-7EEEF0F2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3346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79240"/>
            <a:ext cx="33465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666600"/>
            <a:ext cx="3346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25A-AE93-4ABF-8802-FE35EDEE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334656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79240"/>
            <a:ext cx="3346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666600"/>
            <a:ext cx="3346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8D11-2887-4AF3-86B9-2008845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79240"/>
            <a:ext cx="3346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79240"/>
            <a:ext cx="33465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666600"/>
            <a:ext cx="685800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666-AA99-4550-8FA8-B116F80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4160"/>
            <a:ext cx="6858000" cy="105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79240"/>
            <a:ext cx="6858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776560"/>
            <a:ext cx="177804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776560"/>
            <a:ext cx="24130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776560"/>
            <a:ext cx="177804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10E6-66D8-4BBC-8060-61FD0122D2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00" y="428760"/>
            <a:ext cx="7410600" cy="0"/>
          </a:xfrm>
          <a:prstGeom prst="line">
            <a:avLst/>
          </a:prstGeom>
          <a:ln w="38160">
            <a:solidFill>
              <a:srgbClr val="4b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2600"/>
            <a:ext cx="5652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4b0082"/>
                </a:solidFill>
                <a:latin typeface="Trebuchet MS"/>
              </a:rPr>
              <a:t>L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429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800080"/>
                </a:solidFill>
                <a:latin typeface="Trebuchet MS"/>
              </a:rPr>
              <a:t>Teacher's Notes  </a:t>
            </a:r>
            <a:r>
              <a:rPr b="1" lang="en-GB" sz="1400" spc="-1" strike="noStrike">
                <a:solidFill>
                  <a:srgbClr val="800080"/>
                </a:solidFill>
                <a:latin typeface="Trebuchet MS"/>
              </a:rPr>
              <a:t>Topic: </a:t>
            </a:r>
            <a:r>
              <a:rPr b="0" lang="en-GB" sz="1400" spc="-1" strike="noStrike">
                <a:solidFill>
                  <a:srgbClr val="4b0082"/>
                </a:solidFill>
                <a:latin typeface="Trebuchet MS"/>
              </a:rPr>
              <a:t>SSM - pyth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17920" y="4556160"/>
            <a:ext cx="321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What if the perimeter is </a:t>
            </a:r>
            <a:r>
              <a:rPr b="0" i="1" lang="en-GB" sz="1700" spc="-1" strike="noStrike">
                <a:solidFill>
                  <a:srgbClr val="800080"/>
                </a:solidFill>
                <a:latin typeface="Trebuchet MS"/>
              </a:rPr>
              <a:t>x</a:t>
            </a:r>
            <a:r>
              <a:rPr b="0" lang="en-GB" sz="1700" spc="-1" strike="noStrike">
                <a:solidFill>
                  <a:srgbClr val="800080"/>
                </a:solidFill>
                <a:latin typeface="Trebuchet MS"/>
              </a:rPr>
              <a:t> 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9200" y="450720"/>
            <a:ext cx="5575320" cy="3793320"/>
            <a:chOff x="79200" y="450720"/>
            <a:chExt cx="5575320" cy="3793320"/>
          </a:xfrm>
        </p:grpSpPr>
        <p:sp>
          <p:nvSpPr>
            <p:cNvPr id="46" name=""/>
            <p:cNvSpPr/>
            <p:nvPr/>
          </p:nvSpPr>
          <p:spPr>
            <a:xfrm>
              <a:off x="174600" y="3556080"/>
              <a:ext cx="38228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The </a:t>
              </a: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perimeter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 of the regular octagon is </a:t>
              </a: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32cm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Work out length </a:t>
              </a:r>
              <a:r>
                <a:rPr b="1" i="1" lang="en-GB" sz="1300" spc="-1" strike="noStrike">
                  <a:solidFill>
                    <a:srgbClr val="000000"/>
                  </a:solidFill>
                  <a:latin typeface="Trebuchet MS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973080" y="1165320"/>
              <a:ext cx="349092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9200" y="450720"/>
              <a:ext cx="55753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I have a square piece of card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I cut a triangle from each corner so that the remaining card is in the shape of a </a:t>
              </a:r>
              <a:r>
                <a:rPr b="1" lang="en-GB" sz="1300" spc="-1" strike="noStrike">
                  <a:solidFill>
                    <a:srgbClr val="000000"/>
                  </a:solidFill>
                  <a:latin typeface="Trebuchet MS"/>
                </a:rPr>
                <a:t>regular octagon</a:t>
              </a:r>
              <a:r>
                <a:rPr b="0" lang="en-GB" sz="1300" spc="-1" strike="noStrike">
                  <a:solidFill>
                    <a:srgbClr val="000000"/>
                  </a:solidFill>
                  <a:latin typeface="Trebuchet MS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565600" y="0"/>
            <a:ext cx="14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Octag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79840" y="0"/>
            <a:ext cx="147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800080"/>
                </a:solidFill>
                <a:uFillTx/>
                <a:latin typeface="Trebuchet MS"/>
              </a:rPr>
              <a:t>Octag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7080" y="231840"/>
            <a:ext cx="7575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I have a square piece of ca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I cut a triangle from each corner so that the remaining card is in the shape of a </a:t>
            </a: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regular octagon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24080" y="1190520"/>
            <a:ext cx="4768920" cy="3259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4508640"/>
            <a:ext cx="5175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The </a:t>
            </a: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perimeter</a:t>
            </a: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 of the regular octagon is </a:t>
            </a: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32c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rebuchet MS"/>
              </a:rPr>
              <a:t>Work out length </a:t>
            </a:r>
            <a:r>
              <a:rPr b="1" i="1" lang="en-GB" sz="1700" spc="-1" strike="noStrike">
                <a:solidFill>
                  <a:srgbClr val="000000"/>
                </a:solidFill>
                <a:latin typeface="Trebuchet MS"/>
              </a:rPr>
              <a:t>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30:40Z</dcterms:created>
  <dc:creator>MDawes</dc:creator>
  <dc:description/>
  <dc:language>en-US</dc:language>
  <cp:lastModifiedBy>MDawes</cp:lastModifiedBy>
  <dcterms:modified xsi:type="dcterms:W3CDTF">2007-07-05T00:30:40Z</dcterms:modified>
  <cp:revision>1</cp:revision>
  <dc:subject/>
  <dc:title>Slide 1</dc:title>
</cp:coreProperties>
</file>