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A02E-7C1E-498D-8FEC-134B2893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B4B-ACE1-462E-861B-FCEE91E1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A70-BD98-42AC-97B2-540BBA4D5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74E-B142-4A9E-8485-3D1F8417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843-5F25-40F2-8400-9CEFD849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E32-7587-48F7-ACC4-91B476D8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6C7-B924-4FB9-9DA1-BF106AA7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FFB-4795-4BF4-9C5F-BAFE314B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5C9-278D-4552-9858-5FB561EA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3CF-DEFC-456D-A6FB-4D8A5D10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CCF-C898-41F3-A808-2957A435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A6C8-0152-422C-9E82-22CFC6E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72A7-A57B-416A-8EB1-A030AD4F1B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84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840" y="4089240"/>
            <a:ext cx="742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other questions could we a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compare the peri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draw a leaf that has the same perimeter as the Beech but a smaller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65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Ar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8000" y="660240"/>
            <a:ext cx="4718160" cy="2836440"/>
            <a:chOff x="108000" y="660240"/>
            <a:chExt cx="4718160" cy="2836440"/>
          </a:xfrm>
        </p:grpSpPr>
        <p:sp>
          <p:nvSpPr>
            <p:cNvPr id="46" name=""/>
            <p:cNvSpPr/>
            <p:nvPr/>
          </p:nvSpPr>
          <p:spPr>
            <a:xfrm>
              <a:off x="241200" y="2489040"/>
              <a:ext cx="37465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Compare the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area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of the leave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Write the leaves in order,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smallest area first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______      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______      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______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smallest area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largest are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8000" y="660240"/>
              <a:ext cx="471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The scale drawing shows three leaves from different tree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The drawing on the right shows the leaves drawn on top of each other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5527800" y="0"/>
            <a:ext cx="136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Le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1520" y="1181160"/>
            <a:ext cx="348120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1800" y="0"/>
            <a:ext cx="136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Le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8280" y="393840"/>
            <a:ext cx="6604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scale drawing shows three leaves from different tre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he drawing on the right shows the leaves drawn on top of each othe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0280" y="3870360"/>
            <a:ext cx="52326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Compare the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area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of the leav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Write the leaves in order,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smallest area first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__     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__      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__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mallest area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largest are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1200240"/>
            <a:ext cx="66294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7:51Z</dcterms:created>
  <dc:creator>MDawes</dc:creator>
  <dc:description/>
  <dc:language>en-US</dc:language>
  <cp:lastModifiedBy>MDawes</cp:lastModifiedBy>
  <dcterms:modified xsi:type="dcterms:W3CDTF">2007-07-04T11:37:52Z</dcterms:modified>
  <cp:revision>1</cp:revision>
  <dc:subject/>
  <dc:title>Slide 1</dc:title>
</cp:coreProperties>
</file>