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C5D-94B2-48D3-BA11-9409663D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39C-8640-4AEC-9861-B0B8551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EC7-EB17-4ED8-9359-B08C0856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8F6-F7F3-4296-A34C-EFD864F5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C2B-590C-4AC9-9343-7D3DBB0B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28E-D976-4E56-8064-9CE082A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DF2-0257-4645-A58E-7580AE4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800-23AA-4AC6-B295-AE5EE8B2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5D7-3B2E-439D-A696-9D514BB7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3BE-B6B7-4E4D-9246-16CDBC5D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971-2230-42C0-A56D-D0E99A74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439-F3B3-4F52-946A-D9F834E8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809F-0CB9-4E73-B5B9-AC9A55443F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0" y="4641840"/>
            <a:ext cx="767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How many different congruent tiles can you find (needn't be letters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Change the outline - eg: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 (page of these provi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Can you describe how to transform the shaded shape into the white one?  Eg reflect and translate, rotate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80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Congruence, transfor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760" y="546120"/>
            <a:ext cx="3479760" cy="1265400"/>
            <a:chOff x="50760" y="546120"/>
            <a:chExt cx="3479760" cy="1265400"/>
          </a:xfrm>
        </p:grpSpPr>
        <p:sp>
          <p:nvSpPr>
            <p:cNvPr id="46" name=""/>
            <p:cNvSpPr/>
            <p:nvPr/>
          </p:nvSpPr>
          <p:spPr>
            <a:xfrm>
              <a:off x="270000" y="1413000"/>
              <a:ext cx="2603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how how the two congruent 'F-tiles'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an fit together to make this shap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0" y="546120"/>
              <a:ext cx="3479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The diagram shows how two congruent 'F-tiles'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fit together to make a rectangl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508720" y="0"/>
            <a:ext cx="199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Fitting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240" y="1905120"/>
            <a:ext cx="741024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879560"/>
            <a:ext cx="4168800" cy="2701080"/>
            <a:chOff x="0" y="1879560"/>
            <a:chExt cx="4168800" cy="2701080"/>
          </a:xfrm>
        </p:grpSpPr>
        <p:sp>
          <p:nvSpPr>
            <p:cNvPr id="51" name=""/>
            <p:cNvSpPr/>
            <p:nvPr/>
          </p:nvSpPr>
          <p:spPr>
            <a:xfrm>
              <a:off x="0" y="3984480"/>
              <a:ext cx="2622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hat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other 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shape could the tiles be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Show them on the diagram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320" y="1879560"/>
              <a:ext cx="414648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Two other tiles fit together to make a different shape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The two tiles are congruent but they are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not 'F-tiles'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What shape could the tiles be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Show them on the diagram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990880" y="4924440"/>
            <a:ext cx="496800" cy="649440"/>
            <a:chOff x="2990880" y="4924440"/>
            <a:chExt cx="496800" cy="649440"/>
          </a:xfrm>
        </p:grpSpPr>
        <p:sp>
          <p:nvSpPr>
            <p:cNvPr id="54" name=""/>
            <p:cNvSpPr/>
            <p:nvPr/>
          </p:nvSpPr>
          <p:spPr>
            <a:xfrm>
              <a:off x="2990880" y="4924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990880" y="5086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90880" y="5248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162240" y="5086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62240" y="5248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24240" y="5086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24240" y="5248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24240" y="541008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2" y="0"/>
                  </a:lnTo>
                  <a:lnTo>
                    <a:pt x="102" y="102"/>
                  </a:lnTo>
                  <a:lnTo>
                    <a:pt x="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019400" y="466560"/>
            <a:ext cx="790560" cy="1417680"/>
            <a:chOff x="4019400" y="466560"/>
            <a:chExt cx="790560" cy="141768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4019400" y="1370160"/>
              <a:ext cx="790560" cy="51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214880" y="466560"/>
              <a:ext cx="48420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95600" y="2028960"/>
            <a:ext cx="990720" cy="76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43480" y="3343320"/>
            <a:ext cx="9903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241800" y="0"/>
            <a:ext cx="199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Fitting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31640"/>
            <a:ext cx="4851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The diagram shows how two congruent 'F-tiles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fit together to make a rectangl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1040" y="2727360"/>
            <a:ext cx="3612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ow how the two congruent 'F-tiles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an fit together to make this shap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28960" y="857160"/>
            <a:ext cx="1209600" cy="1600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781280" y="3505320"/>
            <a:ext cx="1971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480" y="355680"/>
            <a:ext cx="567036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Two other tiles fit together to make a different shap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two tiles are congruent but they ar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not 'F-tiles'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shape could the tiles b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ow them on the diagr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" y="3289320"/>
            <a:ext cx="3575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hat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other 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ape could the tiles be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ow them on the diagra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86080" y="1314360"/>
            <a:ext cx="2028960" cy="1609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314880" y="3809880"/>
            <a:ext cx="20286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71520" y="237960"/>
            <a:ext cx="1474920" cy="1851120"/>
            <a:chOff x="371520" y="237960"/>
            <a:chExt cx="1474920" cy="1851120"/>
          </a:xfrm>
        </p:grpSpPr>
        <p:sp>
          <p:nvSpPr>
            <p:cNvPr id="77" name=""/>
            <p:cNvSpPr/>
            <p:nvPr/>
          </p:nvSpPr>
          <p:spPr>
            <a:xfrm>
              <a:off x="371520" y="23796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520" y="700200"/>
              <a:ext cx="49032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1520" y="11620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5080" y="700200"/>
              <a:ext cx="492120" cy="46332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65080" y="11620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55760" y="70020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55760" y="11620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55760" y="162576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448000" y="171360"/>
            <a:ext cx="1474560" cy="1851120"/>
            <a:chOff x="2448000" y="171360"/>
            <a:chExt cx="1474560" cy="1851120"/>
          </a:xfrm>
        </p:grpSpPr>
        <p:sp>
          <p:nvSpPr>
            <p:cNvPr id="86" name=""/>
            <p:cNvSpPr/>
            <p:nvPr/>
          </p:nvSpPr>
          <p:spPr>
            <a:xfrm>
              <a:off x="2448000" y="17136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8000" y="6332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48000" y="10954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41560" y="63324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41560" y="10954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32240" y="6332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2240" y="10954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32240" y="155880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505400" y="162000"/>
            <a:ext cx="1474560" cy="1851120"/>
            <a:chOff x="4505400" y="162000"/>
            <a:chExt cx="1474560" cy="1851120"/>
          </a:xfrm>
        </p:grpSpPr>
        <p:sp>
          <p:nvSpPr>
            <p:cNvPr id="95" name=""/>
            <p:cNvSpPr/>
            <p:nvPr/>
          </p:nvSpPr>
          <p:spPr>
            <a:xfrm>
              <a:off x="4505400" y="162000"/>
              <a:ext cx="49032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05400" y="62388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5400" y="108576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98960" y="62388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8960" y="108576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89640" y="62388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9640" y="108576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9640" y="15494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61800" y="2428920"/>
            <a:ext cx="1474920" cy="1851120"/>
            <a:chOff x="361800" y="2428920"/>
            <a:chExt cx="1474920" cy="1851120"/>
          </a:xfrm>
        </p:grpSpPr>
        <p:sp>
          <p:nvSpPr>
            <p:cNvPr id="104" name=""/>
            <p:cNvSpPr/>
            <p:nvPr/>
          </p:nvSpPr>
          <p:spPr>
            <a:xfrm>
              <a:off x="361800" y="242892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1800" y="289080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1800" y="33526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5720" y="289080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5720" y="33526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46040" y="289080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46040" y="33526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46040" y="381636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438280" y="2362320"/>
            <a:ext cx="1474920" cy="1850760"/>
            <a:chOff x="2438280" y="2362320"/>
            <a:chExt cx="1474920" cy="1850760"/>
          </a:xfrm>
        </p:grpSpPr>
        <p:sp>
          <p:nvSpPr>
            <p:cNvPr id="113" name=""/>
            <p:cNvSpPr/>
            <p:nvPr/>
          </p:nvSpPr>
          <p:spPr>
            <a:xfrm>
              <a:off x="2438280" y="236232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38280" y="282420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38280" y="32860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32200" y="282420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32200" y="32860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22520" y="282420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2520" y="32860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2520" y="374976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495680" y="2352600"/>
            <a:ext cx="1474920" cy="1851120"/>
            <a:chOff x="4495680" y="2352600"/>
            <a:chExt cx="1474920" cy="1851120"/>
          </a:xfrm>
        </p:grpSpPr>
        <p:sp>
          <p:nvSpPr>
            <p:cNvPr id="122" name=""/>
            <p:cNvSpPr/>
            <p:nvPr/>
          </p:nvSpPr>
          <p:spPr>
            <a:xfrm>
              <a:off x="4495680" y="235260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5680" y="281448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5680" y="327672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89600" y="281448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9600" y="327672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79920" y="281448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9920" y="327672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79920" y="3740040"/>
              <a:ext cx="49068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1520" y="4352760"/>
            <a:ext cx="1474920" cy="1851120"/>
            <a:chOff x="371520" y="4352760"/>
            <a:chExt cx="1474920" cy="1851120"/>
          </a:xfrm>
        </p:grpSpPr>
        <p:sp>
          <p:nvSpPr>
            <p:cNvPr id="131" name=""/>
            <p:cNvSpPr/>
            <p:nvPr/>
          </p:nvSpPr>
          <p:spPr>
            <a:xfrm>
              <a:off x="371520" y="435276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520" y="4815000"/>
              <a:ext cx="49032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1520" y="52768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5080" y="4815000"/>
              <a:ext cx="492120" cy="46332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080" y="52768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55760" y="481500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55760" y="5276880"/>
              <a:ext cx="49068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55760" y="5740560"/>
              <a:ext cx="49068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448000" y="4286160"/>
            <a:ext cx="1474560" cy="1851120"/>
            <a:chOff x="2448000" y="4286160"/>
            <a:chExt cx="1474560" cy="1851120"/>
          </a:xfrm>
        </p:grpSpPr>
        <p:sp>
          <p:nvSpPr>
            <p:cNvPr id="140" name=""/>
            <p:cNvSpPr/>
            <p:nvPr/>
          </p:nvSpPr>
          <p:spPr>
            <a:xfrm>
              <a:off x="2448000" y="428616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48000" y="47480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48000" y="52102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41560" y="474804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41560" y="521028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32240" y="47480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32240" y="521028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32240" y="567360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505400" y="4276800"/>
            <a:ext cx="1474560" cy="1851120"/>
            <a:chOff x="4505400" y="4276800"/>
            <a:chExt cx="1474560" cy="1851120"/>
          </a:xfrm>
        </p:grpSpPr>
        <p:sp>
          <p:nvSpPr>
            <p:cNvPr id="149" name=""/>
            <p:cNvSpPr/>
            <p:nvPr/>
          </p:nvSpPr>
          <p:spPr>
            <a:xfrm>
              <a:off x="4505400" y="4276800"/>
              <a:ext cx="490320" cy="46332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05400" y="473868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05400" y="520056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8960" y="4738680"/>
              <a:ext cx="492120" cy="463680"/>
            </a:xfrm>
            <a:custGeom>
              <a:avLst/>
              <a:gdLst/>
              <a:ahLst/>
              <a:rect l="l" t="t" r="r" b="b"/>
              <a:pathLst>
                <a:path w="310" h="292">
                  <a:moveTo>
                    <a:pt x="0" y="0"/>
                  </a:moveTo>
                  <a:lnTo>
                    <a:pt x="309" y="0"/>
                  </a:lnTo>
                  <a:lnTo>
                    <a:pt x="309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8960" y="5200560"/>
              <a:ext cx="492120" cy="465120"/>
            </a:xfrm>
            <a:custGeom>
              <a:avLst/>
              <a:gdLst/>
              <a:ahLst/>
              <a:rect l="l" t="t" r="r" b="b"/>
              <a:pathLst>
                <a:path w="310" h="293">
                  <a:moveTo>
                    <a:pt x="0" y="0"/>
                  </a:moveTo>
                  <a:lnTo>
                    <a:pt x="309" y="0"/>
                  </a:lnTo>
                  <a:lnTo>
                    <a:pt x="309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89640" y="473868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89640" y="5200560"/>
              <a:ext cx="490320" cy="465120"/>
            </a:xfrm>
            <a:custGeom>
              <a:avLst/>
              <a:gdLst/>
              <a:ahLst/>
              <a:rect l="l" t="t" r="r" b="b"/>
              <a:pathLst>
                <a:path w="309" h="293">
                  <a:moveTo>
                    <a:pt x="0" y="0"/>
                  </a:moveTo>
                  <a:lnTo>
                    <a:pt x="308" y="0"/>
                  </a:lnTo>
                  <a:lnTo>
                    <a:pt x="308" y="292"/>
                  </a:lnTo>
                  <a:lnTo>
                    <a:pt x="0" y="29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9640" y="5664240"/>
              <a:ext cx="490320" cy="463680"/>
            </a:xfrm>
            <a:custGeom>
              <a:avLst/>
              <a:gdLst/>
              <a:ahLst/>
              <a:rect l="l" t="t" r="r" b="b"/>
              <a:pathLst>
                <a:path w="309" h="292">
                  <a:moveTo>
                    <a:pt x="0" y="0"/>
                  </a:moveTo>
                  <a:lnTo>
                    <a:pt x="308" y="0"/>
                  </a:lnTo>
                  <a:lnTo>
                    <a:pt x="308" y="291"/>
                  </a:lnTo>
                  <a:lnTo>
                    <a:pt x="0" y="2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25Z</dcterms:created>
  <dc:creator>MDawes</dc:creator>
  <dc:description/>
  <dc:language>en-US</dc:language>
  <cp:lastModifiedBy>MDawes</cp:lastModifiedBy>
  <dcterms:modified xsi:type="dcterms:W3CDTF">2007-07-04T11:38:26Z</dcterms:modified>
  <cp:revision>1</cp:revision>
  <dc:subject/>
  <dc:title>Slide 1</dc:title>
</cp:coreProperties>
</file>