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648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B57-DB2B-436A-8CF8-3F7C3CBB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FC6-4464-4492-86ED-9CF768FF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A08-5186-4B80-8F9C-B6B2C094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5052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42640"/>
            <a:ext cx="22078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75B-4B4A-4CAE-9D7C-D2FFEE01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303-BA0A-4ED6-9A60-4306F27B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426C-4A00-4C52-8557-1DD61183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6F7-1F78-46B4-A682-EBF4E9CF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D1E-0435-44BB-8FB2-DFA36F23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760"/>
            <a:ext cx="685800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9A4-A2D2-44AE-BD04-35E14B2A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FAD-FC88-48B4-AF3A-595D6F4C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4264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D90-EBD7-4749-8D8D-4DBAEDB0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50520"/>
            <a:ext cx="33465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2640"/>
            <a:ext cx="685800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90A0-991E-4DE7-A5C0-67AE1D4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6858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50520"/>
            <a:ext cx="68580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54480"/>
            <a:ext cx="2413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54480"/>
            <a:ext cx="177804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2442-7328-4910-A346-E7489CFF0F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66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b0082"/>
                </a:solidFill>
                <a:latin typeface="Trebuchet MS"/>
              </a:rPr>
              <a:t>L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0" y="3670200"/>
            <a:ext cx="767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other real-life objects are also cylind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0080"/>
                </a:solidFill>
                <a:latin typeface="Trebuchet MS"/>
              </a:rPr>
              <a:t>What about the other named shapes - can you think of an object to go with each 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4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hap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55520" y="527040"/>
            <a:ext cx="4527720" cy="2818080"/>
            <a:chOff x="155520" y="527040"/>
            <a:chExt cx="4527720" cy="2818080"/>
          </a:xfrm>
        </p:grpSpPr>
        <p:sp>
          <p:nvSpPr>
            <p:cNvPr id="46" name=""/>
            <p:cNvSpPr/>
            <p:nvPr/>
          </p:nvSpPr>
          <p:spPr>
            <a:xfrm>
              <a:off x="3174840" y="3079800"/>
              <a:ext cx="565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o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36840" y="3098880"/>
              <a:ext cx="755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Pyram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08520" y="2536920"/>
              <a:ext cx="77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ylin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89240" y="2546280"/>
              <a:ext cx="679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uboi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1520" y="2575080"/>
              <a:ext cx="56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Cub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2760" y="1851120"/>
              <a:ext cx="3137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Tick the correct name for the shape of the ti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520" y="527040"/>
              <a:ext cx="23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Look at this diagram of a cake tin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5508720" y="0"/>
            <a:ext cx="107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14760" y="638280"/>
            <a:ext cx="13302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1800" y="0"/>
            <a:ext cx="107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C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8280" y="450720"/>
            <a:ext cx="338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Look at this diagram of a cake t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4600" y="2394000"/>
            <a:ext cx="44895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Tick the correct name for the shape of the ti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3451320"/>
            <a:ext cx="755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ub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84560" y="3422520"/>
            <a:ext cx="927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ubo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27800" y="3403440"/>
            <a:ext cx="1060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ylin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089080" y="4232160"/>
            <a:ext cx="1041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Pyram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70480" y="4203720"/>
            <a:ext cx="755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C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067280" y="485640"/>
            <a:ext cx="2562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11:37:19Z</dcterms:created>
  <dc:creator>MDawes</dc:creator>
  <dc:description/>
  <dc:language>en-US</dc:language>
  <cp:lastModifiedBy>MDawes</cp:lastModifiedBy>
  <dcterms:modified xsi:type="dcterms:W3CDTF">2007-07-04T11:37:20Z</dcterms:modified>
  <cp:revision>1</cp:revision>
  <dc:subject/>
  <dc:title>Slide 1</dc:title>
</cp:coreProperties>
</file>