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98D-0AAF-4F82-A31D-46A7AB89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EDC9-7550-4696-9611-73C3D0AC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0EF-1327-4773-9AAF-45D8CB1F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D2B-A57B-45F6-A4B8-5956EF45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8AA-E81A-4AF5-9B02-BC88EAD0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AC9-7D73-46F5-9567-78F7D183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507-3C74-4CF4-A5FE-41DB1DC8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F65-D4A8-4993-B374-79CA0057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E7B-7E1C-42D1-BF5F-FD3B68AC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8EF-96FC-4B70-B319-65862A65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20E-AFAC-4786-BB1E-46A4D5CB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5655-D648-499D-8EF2-BC71B84E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A903-12E3-4300-88F3-F91C7B8BF4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538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SSM - isometric draw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7360" y="2479680"/>
            <a:ext cx="63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other questions could we answ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g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draw another prism with 8 faces ... and another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how many edges/vertices does the shape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" y="350532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94400" y="0"/>
            <a:ext cx="117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4760" y="5165640"/>
            <a:ext cx="21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Draw a weird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4600" y="374760"/>
            <a:ext cx="2718000" cy="2385000"/>
            <a:chOff x="174600" y="374760"/>
            <a:chExt cx="2718000" cy="2385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382680" y="646200"/>
              <a:ext cx="2509920" cy="17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412920" y="2422440"/>
              <a:ext cx="187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rebuchet MS"/>
                </a:rPr>
                <a:t>How many </a:t>
              </a:r>
              <a:r>
                <a:rPr b="1" lang="en-GB" sz="800" spc="-1" strike="noStrike">
                  <a:solidFill>
                    <a:srgbClr val="000000"/>
                  </a:solidFill>
                  <a:latin typeface="Trebuchet MS"/>
                </a:rPr>
                <a:t>faces</a:t>
              </a:r>
              <a:r>
                <a:rPr b="0" lang="en-GB" sz="800" spc="-1" strike="noStrike">
                  <a:solidFill>
                    <a:srgbClr val="000000"/>
                  </a:solidFill>
                  <a:latin typeface="Trebuchet MS"/>
                </a:rPr>
                <a:t> does the prism have?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4600" y="374760"/>
              <a:ext cx="22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Trebuchet MS"/>
                </a:rPr>
                <a:t>(a)  Look at the drawing of a prism on the grid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79200" y="3489480"/>
            <a:ext cx="2500560" cy="1701720"/>
            <a:chOff x="79200" y="3489480"/>
            <a:chExt cx="2500560" cy="1701720"/>
          </a:xfrm>
        </p:grpSpPr>
        <p:sp>
          <p:nvSpPr>
            <p:cNvPr id="53" name=""/>
            <p:cNvSpPr/>
            <p:nvPr/>
          </p:nvSpPr>
          <p:spPr>
            <a:xfrm>
              <a:off x="79200" y="3489480"/>
              <a:ext cx="237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rebuchet MS"/>
                </a:rPr>
                <a:t>(b)  Use an isometric grid to draw a solid with </a:t>
              </a:r>
              <a:r>
                <a:rPr b="1" lang="en-GB" sz="700" spc="-1" strike="noStrike">
                  <a:solidFill>
                    <a:srgbClr val="000000"/>
                  </a:solidFill>
                  <a:latin typeface="Trebuchet MS"/>
                </a:rPr>
                <a:t>6 faces</a:t>
              </a:r>
              <a:r>
                <a:rPr b="0" lang="en-GB" sz="7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95200" y="3720960"/>
              <a:ext cx="2284560" cy="1470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1800" y="0"/>
            <a:ext cx="117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8280" y="393840"/>
            <a:ext cx="448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a)  Look at the drawing of a prism on the gri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4280" y="4613400"/>
            <a:ext cx="3689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How many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face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does the prism hav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885960"/>
            <a:ext cx="510552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98280" y="393840"/>
            <a:ext cx="5521320" cy="3873240"/>
            <a:chOff x="98280" y="393840"/>
            <a:chExt cx="5521320" cy="3873240"/>
          </a:xfrm>
        </p:grpSpPr>
        <p:sp>
          <p:nvSpPr>
            <p:cNvPr id="60" name=""/>
            <p:cNvSpPr/>
            <p:nvPr/>
          </p:nvSpPr>
          <p:spPr>
            <a:xfrm>
              <a:off x="98280" y="393840"/>
              <a:ext cx="5156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(b)  Use an isometric grid to draw a solid with </a:t>
              </a:r>
              <a:r>
                <a:rPr b="1" lang="en-GB" sz="1500" spc="-1" strike="noStrike">
                  <a:solidFill>
                    <a:srgbClr val="000000"/>
                  </a:solidFill>
                  <a:latin typeface="Trebuchet MS"/>
                </a:rPr>
                <a:t>6 faces</a:t>
              </a:r>
              <a:r>
                <a:rPr b="0" lang="en-GB" sz="15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504720" y="847800"/>
              <a:ext cx="5114880" cy="3419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9:32Z</dcterms:created>
  <dc:creator>MDawes</dc:creator>
  <dc:description/>
  <dc:language>en-US</dc:language>
  <cp:lastModifiedBy>MDawes</cp:lastModifiedBy>
  <dcterms:modified xsi:type="dcterms:W3CDTF">2007-07-04T11:39:33Z</dcterms:modified>
  <cp:revision>1</cp:revision>
  <dc:subject/>
  <dc:title>Slide 1</dc:title>
</cp:coreProperties>
</file>