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62F-C3D8-46B6-876F-67B24DE1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D46-F9A2-4835-AB48-26290474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0C6-51C0-423C-B791-3378A6AD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8014-F479-48FC-BECB-82AD7CE5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0BC-FFD7-4FD1-8D3A-CAE2E33F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460-4889-4CB8-8522-F4E16210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6D05-9FB7-4F37-B51C-989DFEAB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688-6890-4FE7-B5FC-7CD63BA8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835-96BD-4DA1-9A57-EC1B5F2E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3AB-52F5-46CD-A691-99573EC0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CBE8-DF36-42A0-AB01-86E949B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9F5-B50A-4D52-8B8F-42E4C74A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3BA-9255-42CC-AFF0-4610C56AC6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27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SM - angles/reaso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98680"/>
            <a:ext cx="62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How many different ways can you explai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 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the angles should add up to 180 but only make 1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you are two degrees sh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178 is an obtuse 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61040" y="0"/>
            <a:ext cx="21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Three 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4600" y="479520"/>
            <a:ext cx="5126040" cy="2774880"/>
            <a:chOff x="174600" y="479520"/>
            <a:chExt cx="5126040" cy="277488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306360" y="890640"/>
              <a:ext cx="499428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22280" y="2612880"/>
              <a:ext cx="241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Will ABC make a straight line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Explain your answ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4600" y="479520"/>
              <a:ext cx="288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rebuchet MS"/>
                </a:rPr>
                <a:t>Three shapes fit together at point B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6160" y="365040"/>
            <a:ext cx="3555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ree shapes fit together at point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03520" y="0"/>
            <a:ext cx="21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Three 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720" y="3051000"/>
            <a:ext cx="29656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ill ABC make a straight lin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Explain your answ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5200" y="866880"/>
            <a:ext cx="62200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0:19Z</dcterms:created>
  <dc:creator>MDawes</dc:creator>
  <dc:description/>
  <dc:language>en-US</dc:language>
  <cp:lastModifiedBy>MDawes</cp:lastModifiedBy>
  <dcterms:modified xsi:type="dcterms:W3CDTF">2007-07-04T11:40:20Z</dcterms:modified>
  <cp:revision>1</cp:revision>
  <dc:subject/>
  <dc:title>Slide 1</dc:title>
</cp:coreProperties>
</file>