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E1A-3946-4362-8703-626D0FD3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A04-DD1F-4021-B16C-B311F86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3050-FB9B-4C2B-8E97-5791C8429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BDBD-32BF-4BF5-91FD-CC51102D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BA9-AECF-4AA2-B6C0-A4247E35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477-A49F-4C8F-ABA1-5E00DD2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0DF-CC87-4AC2-9E6B-7023176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130E-7A62-4982-A755-85282D1A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9A9-9296-4FFA-8DB6-FF1E1AC2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1A79-90BF-42A7-B0FE-35F678E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248-904D-4C47-B788-E9281768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2B9-A02E-410C-9CA2-C6A572B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184C-4B18-414A-B9D1-5669148078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66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4600" y="3870360"/>
            <a:ext cx="757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questions could you a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Eg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hich of these shapes are a trapez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can you draw another different-looking trapez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which quadrilaterals can have at least one right ang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- for each question in part (a) draw another shape that fits the definition.  And another one, and another one, and a weird 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060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Properties of Sha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93680" y="460440"/>
            <a:ext cx="4413240" cy="3156840"/>
            <a:chOff x="193680" y="460440"/>
            <a:chExt cx="4413240" cy="3156840"/>
          </a:xfrm>
        </p:grpSpPr>
        <p:sp>
          <p:nvSpPr>
            <p:cNvPr id="46" name=""/>
            <p:cNvSpPr/>
            <p:nvPr/>
          </p:nvSpPr>
          <p:spPr>
            <a:xfrm>
              <a:off x="279360" y="3355920"/>
              <a:ext cx="4241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(b)  Shape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is the only shape with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four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GB" sz="1100" spc="-1" strike="noStrike">
                  <a:solidFill>
                    <a:srgbClr val="000000"/>
                  </a:solidFill>
                  <a:latin typeface="Trebuchet MS"/>
                </a:rPr>
                <a:t>________________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0000" y="1927080"/>
              <a:ext cx="4336920" cy="131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Complete the sentences below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hap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s the only shape with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three sid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hap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s the only shape with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no right angles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Shape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____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 is the only shape with </a:t>
              </a:r>
              <a:r>
                <a:rPr b="1" lang="en-GB" sz="1000" spc="-1" strike="noStrike">
                  <a:solidFill>
                    <a:srgbClr val="000000"/>
                  </a:solidFill>
                  <a:latin typeface="Trebuchet MS"/>
                </a:rPr>
                <a:t>no lines of symmetry</a:t>
              </a: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3680" y="460440"/>
              <a:ext cx="1917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Look at these five shape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032440" y="0"/>
            <a:ext cx="210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Odd one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0160" y="752400"/>
            <a:ext cx="532440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1800" y="0"/>
            <a:ext cx="210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Odd one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280" y="450720"/>
            <a:ext cx="2622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ook at these five shap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4600" y="2584440"/>
            <a:ext cx="60134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Complete the sentences below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ap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s the only shape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three sid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ap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s the only shape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no right angles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Shap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s the only shape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no lines of symmetry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4527720"/>
            <a:ext cx="588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Shape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B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is the only shape with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four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________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680" y="790560"/>
            <a:ext cx="76201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6:22Z</dcterms:created>
  <dc:creator>MDawes</dc:creator>
  <dc:description/>
  <dc:language>en-US</dc:language>
  <cp:lastModifiedBy>MDawes</cp:lastModifiedBy>
  <dcterms:modified xsi:type="dcterms:W3CDTF">2007-07-04T11:36:23Z</dcterms:modified>
  <cp:revision>1</cp:revision>
  <dc:subject/>
  <dc:title>Slide 1</dc:title>
</cp:coreProperties>
</file>