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278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6D7-B7DE-4A47-BC42-6E0E359D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685800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28080"/>
            <a:ext cx="685800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F40-0F9F-4142-B5FA-E251A6A5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6484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2808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62808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9BC9-9316-41D9-BAE1-DDC45CFD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2207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64840"/>
            <a:ext cx="2207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64840"/>
            <a:ext cx="2207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28080"/>
            <a:ext cx="2207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628080"/>
            <a:ext cx="2207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628080"/>
            <a:ext cx="220788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FBA-0060-4C6D-A11F-13516ED1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64840"/>
            <a:ext cx="685800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187-4653-45FB-85BA-56DED60F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68580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7AF-2EB3-48E2-B219-7831FBA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33465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64840"/>
            <a:ext cx="33465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837-4915-4B94-9CEE-EA294229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4F0-70B6-4777-AD19-30A97AE5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0920"/>
            <a:ext cx="685800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D79-2226-4F5A-93F5-1F2D384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64840"/>
            <a:ext cx="33465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2808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67F-03AB-4AFE-9415-655A1399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334656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6484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62808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C4D-A064-4088-A71A-2278C8A5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6484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64840"/>
            <a:ext cx="334656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28080"/>
            <a:ext cx="6858000" cy="19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A50-F337-4F20-956E-2DD51139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0920"/>
            <a:ext cx="68580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64840"/>
            <a:ext cx="68580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716080"/>
            <a:ext cx="1778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716080"/>
            <a:ext cx="241308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716080"/>
            <a:ext cx="177804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E15-784B-4663-A51D-AC632D3C73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18480" y="12600"/>
            <a:ext cx="755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7/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55562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5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500" spc="-1" strike="noStrike">
                <a:solidFill>
                  <a:srgbClr val="4b0082"/>
                </a:solidFill>
                <a:latin typeface="Trebuchet MS"/>
              </a:rPr>
              <a:t>SSM - Pythag, sim triang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7000" y="0"/>
            <a:ext cx="186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Pythag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0760" y="393840"/>
            <a:ext cx="4870440" cy="1166760"/>
            <a:chOff x="50760" y="393840"/>
            <a:chExt cx="4870440" cy="11667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008000" y="603360"/>
              <a:ext cx="15350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0760" y="393840"/>
              <a:ext cx="4870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a)  Use Pythagoras' theorem to explain why triangle A must be right-angl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9360" y="158112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7760" y="1930320"/>
            <a:ext cx="3517920" cy="1397160"/>
            <a:chOff x="77760" y="1930320"/>
            <a:chExt cx="3517920" cy="13971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1463760" y="1930320"/>
              <a:ext cx="2131920" cy="13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77760" y="1930320"/>
              <a:ext cx="1563840" cy="10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12600" y="1546200"/>
            <a:ext cx="313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(b)  Triangle A is enlarged to make triangle 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Use similar triangles to show that </a:t>
            </a:r>
            <a:r>
              <a:rPr b="0" i="1" lang="en-GB" sz="10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GB" sz="10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GB" sz="1000" spc="-1" strike="noStrike">
                <a:solidFill>
                  <a:srgbClr val="000000"/>
                </a:solidFill>
                <a:latin typeface="Trebuchet MS"/>
              </a:rPr>
              <a:t>9.2c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98960" y="2508120"/>
            <a:ext cx="3612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How many ways can you do thi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440" y="336240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98440" y="3365640"/>
            <a:ext cx="4613400" cy="2474640"/>
            <a:chOff x="298440" y="3365640"/>
            <a:chExt cx="4613400" cy="2474640"/>
          </a:xfrm>
        </p:grpSpPr>
        <p:grpSp>
          <p:nvGrpSpPr>
            <p:cNvPr id="56" name=""/>
            <p:cNvGrpSpPr/>
            <p:nvPr/>
          </p:nvGrpSpPr>
          <p:grpSpPr>
            <a:xfrm>
              <a:off x="1014480" y="3371760"/>
              <a:ext cx="3897360" cy="1933560"/>
              <a:chOff x="1014480" y="3371760"/>
              <a:chExt cx="3897360" cy="1933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4160" y="3371760"/>
                <a:ext cx="3757680" cy="19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1014480" y="3471840"/>
                <a:ext cx="1263600" cy="192240"/>
              </a:xfrm>
              <a:custGeom>
                <a:avLst/>
                <a:gdLst/>
                <a:ahLst/>
                <a:rect l="l" t="t" r="r" b="b"/>
                <a:pathLst>
                  <a:path w="796" h="121">
                    <a:moveTo>
                      <a:pt x="0" y="0"/>
                    </a:moveTo>
                    <a:lnTo>
                      <a:pt x="795" y="0"/>
                    </a:lnTo>
                    <a:lnTo>
                      <a:pt x="795" y="120"/>
                    </a:lnTo>
                    <a:lnTo>
                      <a:pt x="0" y="1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98440" y="3365640"/>
              <a:ext cx="338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(c)  The diagram shows the Earth and two other planet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5480" y="3565440"/>
              <a:ext cx="26416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Planet P is 6.9 x 10</a:t>
              </a:r>
              <a:r>
                <a:rPr b="0" lang="en-GB" sz="1100" spc="-1" strike="noStrike" baseline="30000">
                  <a:solidFill>
                    <a:srgbClr val="000000"/>
                  </a:solidFill>
                  <a:latin typeface="Trebuchet MS"/>
                </a:rPr>
                <a:t>7 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km from Earth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Planet Q is 9.2 x 10</a:t>
              </a:r>
              <a:r>
                <a:rPr b="0" lang="en-GB" sz="1100" spc="-1" strike="noStrike" baseline="30000">
                  <a:solidFill>
                    <a:srgbClr val="000000"/>
                  </a:solidFill>
                  <a:latin typeface="Trebuchet MS"/>
                </a:rPr>
                <a:t>7 </a:t>
              </a:r>
              <a:r>
                <a:rPr b="0" lang="en-GB" sz="1100" spc="-1" strike="noStrike">
                  <a:solidFill>
                    <a:srgbClr val="000000"/>
                  </a:solidFill>
                  <a:latin typeface="Trebuchet MS"/>
                </a:rPr>
                <a:t>km from Earth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200" y="5137200"/>
              <a:ext cx="2241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How far is Planet P from Planet Q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Trebuchet MS"/>
                </a:rPr>
                <a:t>Give your answer in standard form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679840" y="0"/>
            <a:ext cx="186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Pythago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" y="326880"/>
            <a:ext cx="7004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a)  Use Pythagoras' theorem to explain why triangle A must be right-angl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47880" y="847800"/>
            <a:ext cx="36194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9200" y="136440"/>
            <a:ext cx="47563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b)  Triangle A is enlarged to make triangle 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Use similar triangles to show that </a:t>
            </a:r>
            <a:r>
              <a:rPr b="0" i="1" lang="en-GB" sz="1500" spc="-1" strike="noStrike">
                <a:solidFill>
                  <a:srgbClr val="000000"/>
                </a:solidFill>
                <a:latin typeface="Trebuchet MS"/>
              </a:rPr>
              <a:t>d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= </a:t>
            </a:r>
            <a:r>
              <a:rPr b="1" lang="en-GB" sz="1500" spc="-1" strike="noStrike">
                <a:solidFill>
                  <a:srgbClr val="000000"/>
                </a:solidFill>
                <a:latin typeface="Trebuchet MS"/>
              </a:rPr>
              <a:t>9.2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90440" y="1171440"/>
            <a:ext cx="6991560" cy="2905200"/>
            <a:chOff x="190440" y="1171440"/>
            <a:chExt cx="6991560" cy="29052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943360" y="1171440"/>
              <a:ext cx="4238640" cy="290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90440" y="1171440"/>
              <a:ext cx="3106800" cy="211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305000" y="581040"/>
            <a:ext cx="6086520" cy="3105000"/>
            <a:chOff x="1305000" y="581040"/>
            <a:chExt cx="6086520" cy="3105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1523880" y="581040"/>
              <a:ext cx="5867640" cy="31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305000" y="743040"/>
              <a:ext cx="1973160" cy="306360"/>
            </a:xfrm>
            <a:custGeom>
              <a:avLst/>
              <a:gdLst/>
              <a:ahLst/>
              <a:rect l="l" t="t" r="r" b="b"/>
              <a:pathLst>
                <a:path w="1243" h="193">
                  <a:moveTo>
                    <a:pt x="0" y="0"/>
                  </a:moveTo>
                  <a:lnTo>
                    <a:pt x="1242" y="0"/>
                  </a:lnTo>
                  <a:lnTo>
                    <a:pt x="1242" y="192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9200" y="136440"/>
            <a:ext cx="5213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c)  The diagram shows the Earth and two other plan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6120" y="717480"/>
            <a:ext cx="4051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Planet P is 6.9 x 10</a:t>
            </a:r>
            <a:r>
              <a:rPr b="0" lang="en-GB" sz="1700" spc="-1" strike="noStrike" baseline="30000">
                <a:solidFill>
                  <a:srgbClr val="000000"/>
                </a:solidFill>
                <a:latin typeface="Trebuchet MS"/>
              </a:rPr>
              <a:t>7 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km from Ear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Planet Q is 9.2 x 10</a:t>
            </a:r>
            <a:r>
              <a:rPr b="0" lang="en-GB" sz="1700" spc="-1" strike="noStrike" baseline="30000">
                <a:solidFill>
                  <a:srgbClr val="000000"/>
                </a:solidFill>
                <a:latin typeface="Trebuchet MS"/>
              </a:rPr>
              <a:t>7 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km from Ear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8280" y="4032360"/>
            <a:ext cx="33847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How far is Planet P from Planet Q 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Give your answer in standard for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29:12Z</dcterms:created>
  <dc:creator>MDawes</dc:creator>
  <dc:description/>
  <dc:language>en-US</dc:language>
  <cp:lastModifiedBy>MDawes</cp:lastModifiedBy>
  <dcterms:modified xsi:type="dcterms:W3CDTF">2007-07-05T00:29:13Z</dcterms:modified>
  <cp:revision>1</cp:revision>
  <dc:subject/>
  <dc:title>Slide 1</dc:title>
</cp:coreProperties>
</file>