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ADB-8651-4F97-B140-1A7468054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752-1F28-4854-BE09-8EF675F7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22D-2318-448C-8475-9AFEC9C0B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45E-AA25-4B23-B920-118E430A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F85-A650-422F-94FB-6D5E1C61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DE19-79E4-4147-AAF9-45AD4B1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4CE-73C2-4FC0-8DF0-FDD25E7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9FB-2DBA-4416-9D07-A18AB4F9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57D-52E8-45F4-8221-89064CE1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CCF7-B471-4D30-8D7F-D0C2E2D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1CE-8E21-438B-911F-046E8413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4CC-92BD-4A36-896E-448FCE1D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6B41-A60E-4D87-9240-6B4B439C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2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rea/Peri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986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rebuchet MS"/>
              </a:rPr>
              <a:t>Tell me another rectangle with the same perimeter as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rebuchet MS"/>
              </a:rPr>
              <a:t>... and another ...  (include decimals and fractions, but not negat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rebuchet MS"/>
              </a:rPr>
              <a:t>Tell me another rectangle with the same area as this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80"/>
                </a:solidFill>
                <a:latin typeface="Trebuchet MS"/>
              </a:rPr>
              <a:t>... and another ... 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4200" y="0"/>
            <a:ext cx="349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00080"/>
                </a:solidFill>
                <a:uFillTx/>
                <a:latin typeface="Trebuchet MS"/>
              </a:rPr>
              <a:t>Rectangles and squ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1840" y="612720"/>
            <a:ext cx="4873320" cy="2341440"/>
            <a:chOff x="231840" y="612720"/>
            <a:chExt cx="4873320" cy="2341440"/>
          </a:xfrm>
        </p:grpSpPr>
        <p:sp>
          <p:nvSpPr>
            <p:cNvPr id="47" name=""/>
            <p:cNvSpPr/>
            <p:nvPr/>
          </p:nvSpPr>
          <p:spPr>
            <a:xfrm>
              <a:off x="261360" y="2403360"/>
              <a:ext cx="4843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(b)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different square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has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ame perimeter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as this rectangl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What is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ide lengt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of this squar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53480" y="1089000"/>
              <a:ext cx="75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rebuchet MS"/>
                </a:rPr>
                <a:t>Not draw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rebuchet MS"/>
                </a:rPr>
                <a:t>accurate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36640" y="755640"/>
              <a:ext cx="632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rebuchet MS"/>
                </a:rPr>
                <a:t>8c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49920" y="1136520"/>
              <a:ext cx="631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rebuchet MS"/>
                </a:rPr>
                <a:t>2cm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15400" y="1062000"/>
              <a:ext cx="2267280" cy="520560"/>
            </a:xfrm>
            <a:custGeom>
              <a:avLst/>
              <a:gdLst/>
              <a:ahLst/>
              <a:rect l="l" t="t" r="r" b="b"/>
              <a:pathLst>
                <a:path w="1363" h="328">
                  <a:moveTo>
                    <a:pt x="0" y="0"/>
                  </a:moveTo>
                  <a:lnTo>
                    <a:pt x="1362" y="0"/>
                  </a:lnTo>
                  <a:lnTo>
                    <a:pt x="1362" y="327"/>
                  </a:lnTo>
                  <a:lnTo>
                    <a:pt x="0" y="3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840" y="1622520"/>
              <a:ext cx="37857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(a)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quare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has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ame area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as this rectangl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What is th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ide lengt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of this squar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1520" y="612720"/>
              <a:ext cx="1590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Here is a rectangl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6160" y="365040"/>
            <a:ext cx="207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Here is a rect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03520" y="0"/>
            <a:ext cx="349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00080"/>
                </a:solidFill>
                <a:uFillTx/>
                <a:latin typeface="Trebuchet MS"/>
              </a:rPr>
              <a:t>Rectangles and squa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5520" y="2384280"/>
            <a:ext cx="5742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(a)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quare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has the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ame area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as this rect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What is the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ide length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of this square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38320" y="981000"/>
            <a:ext cx="3030480" cy="744480"/>
          </a:xfrm>
          <a:custGeom>
            <a:avLst/>
            <a:gdLst/>
            <a:ahLst/>
            <a:rect l="l" t="t" r="r" b="b"/>
            <a:pathLst>
              <a:path w="1909" h="469">
                <a:moveTo>
                  <a:pt x="0" y="0"/>
                </a:moveTo>
                <a:lnTo>
                  <a:pt x="1908" y="0"/>
                </a:lnTo>
                <a:lnTo>
                  <a:pt x="1908" y="468"/>
                </a:lnTo>
                <a:lnTo>
                  <a:pt x="0" y="4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1440" y="111744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8680" y="56520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4680" y="1041480"/>
            <a:ext cx="96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Not draw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ccurate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7360" y="4222800"/>
            <a:ext cx="64328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(b)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different square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has the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ame perimeter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as this rect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What is the </a:t>
            </a:r>
            <a:r>
              <a:rPr b="1" lang="en-US" sz="1500" spc="-1" strike="noStrike">
                <a:solidFill>
                  <a:srgbClr val="000000"/>
                </a:solidFill>
                <a:latin typeface="Trebuchet MS"/>
              </a:rPr>
              <a:t>side length</a:t>
            </a: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 of this square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9:49Z</dcterms:created>
  <dc:creator>MDawes</dc:creator>
  <dc:description/>
  <dc:language>en-US</dc:language>
  <cp:lastModifiedBy>MDawes</cp:lastModifiedBy>
  <dcterms:modified xsi:type="dcterms:W3CDTF">2010-05-17T09:27:53Z</dcterms:modified>
  <cp:revision>2</cp:revision>
  <dc:subject/>
  <dc:title>Slide 1</dc:title>
</cp:coreProperties>
</file>