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7621588" cy="66484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84C7-B50C-442F-9C65-662E9325B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685800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842640"/>
            <a:ext cx="685800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5DEF-70AC-4736-9000-804EDE63E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55052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84264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84264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250B-0E62-4729-AD91-09C3DE0CB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22078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550520"/>
            <a:ext cx="22078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550520"/>
            <a:ext cx="22078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842640"/>
            <a:ext cx="22078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842640"/>
            <a:ext cx="22078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842640"/>
            <a:ext cx="22078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56F8-7569-461B-A28E-E9CCA38AE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550520"/>
            <a:ext cx="685800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76E2-12DF-4A60-8974-490DCE961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68580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AC5E-BDA4-45C1-8900-8EC246B13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33465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550520"/>
            <a:ext cx="33465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7FD7-43AC-4723-A835-17AEC3E87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C19E-BF2B-49FD-BE0B-6FBD6DD44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66760"/>
            <a:ext cx="6858000" cy="51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A6D2-9F8F-4A25-B447-1AD653FCC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550520"/>
            <a:ext cx="33465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84264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6664-A126-4450-9216-A48B45AF4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33465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55052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84264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1D55-1566-4B44-AAA0-5A3190FE2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55052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842640"/>
            <a:ext cx="685800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1500-2BB7-4519-9374-A5C936FDA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550520"/>
            <a:ext cx="68580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6054480"/>
            <a:ext cx="177804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6054480"/>
            <a:ext cx="241308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6054480"/>
            <a:ext cx="177804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D08A1-0CAD-45F1-A8B7-D51DEC05696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6600" y="428760"/>
            <a:ext cx="7410600" cy="0"/>
          </a:xfrm>
          <a:prstGeom prst="line">
            <a:avLst/>
          </a:prstGeom>
          <a:ln w="38160">
            <a:solidFill>
              <a:srgbClr val="4b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108920" y="12600"/>
            <a:ext cx="5842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4b0082"/>
                </a:solidFill>
                <a:latin typeface="Trebuchet MS"/>
              </a:rPr>
              <a:t>L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5213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0080"/>
                </a:solidFill>
                <a:latin typeface="Trebuchet MS"/>
              </a:rPr>
              <a:t>Teacher's Notes  </a:t>
            </a:r>
            <a:r>
              <a:rPr b="1" lang="en-GB" sz="1500" spc="-1" strike="noStrike">
                <a:solidFill>
                  <a:srgbClr val="800080"/>
                </a:solidFill>
                <a:latin typeface="Trebuchet MS"/>
              </a:rPr>
              <a:t>Topic: </a:t>
            </a:r>
            <a:r>
              <a:rPr b="0" lang="en-GB" sz="1500" spc="-1" strike="noStrike">
                <a:solidFill>
                  <a:srgbClr val="4b0082"/>
                </a:solidFill>
                <a:latin typeface="Trebuchet MS"/>
              </a:rPr>
              <a:t>SSM - converting uni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3203640"/>
            <a:ext cx="7651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For what other measurements does the information above still hold tru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Eg:</a:t>
            </a: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	</a:t>
            </a: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- the perimeter of A is 750mm and of B is 0.5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	</a:t>
            </a: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- the perimeter of A is 750m and of B is 0.5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	</a:t>
            </a: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- the weight of A is 750mg and of B is 0.5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	</a:t>
            </a: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- the weight of A is 750g and of B is 0.5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	</a:t>
            </a: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- the weight of A is 750kg and of B is 0.5ton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18120" y="0"/>
            <a:ext cx="1879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800080"/>
                </a:solidFill>
                <a:uFillTx/>
                <a:latin typeface="Trebuchet MS"/>
              </a:rPr>
              <a:t>Contain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4600" y="384120"/>
            <a:ext cx="4170240" cy="2721600"/>
            <a:chOff x="174600" y="384120"/>
            <a:chExt cx="4170240" cy="2721600"/>
          </a:xfrm>
        </p:grpSpPr>
        <p:pic>
          <p:nvPicPr>
            <p:cNvPr id="47" name="" descr=""/>
            <p:cNvPicPr/>
            <p:nvPr/>
          </p:nvPicPr>
          <p:blipFill>
            <a:blip r:embed="rId1"/>
            <a:stretch/>
          </p:blipFill>
          <p:spPr>
            <a:xfrm>
              <a:off x="1706400" y="647640"/>
              <a:ext cx="2638440" cy="147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222120" y="2174760"/>
              <a:ext cx="3060720" cy="9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rebuchet MS"/>
                </a:rPr>
                <a:t>Which container holds the greater amount?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rebuchet MS"/>
                </a:rPr>
                <a:t>How much </a:t>
              </a:r>
              <a:r>
                <a:rPr b="1" lang="en-GB" sz="1100" spc="-1" strike="noStrike">
                  <a:solidFill>
                    <a:srgbClr val="000000"/>
                  </a:solidFill>
                  <a:latin typeface="Trebuchet MS"/>
                </a:rPr>
                <a:t>more</a:t>
              </a:r>
              <a:r>
                <a:rPr b="0" lang="en-GB" sz="1100" spc="-1" strike="noStrike">
                  <a:solidFill>
                    <a:srgbClr val="000000"/>
                  </a:solidFill>
                  <a:latin typeface="Trebuchet MS"/>
                </a:rPr>
                <a:t> does it hold?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rebuchet MS"/>
                </a:rPr>
                <a:t>Give your answer in millilitre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74600" y="384120"/>
              <a:ext cx="36702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rebuchet MS"/>
                </a:rPr>
                <a:t>Here are two containers and the amounts they hold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241800" y="0"/>
            <a:ext cx="1879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800080"/>
                </a:solidFill>
                <a:uFillTx/>
                <a:latin typeface="Trebuchet MS"/>
              </a:rPr>
              <a:t>Contain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8280" y="393840"/>
            <a:ext cx="4965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Here are two containers and the amounts they hold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5240" y="2870280"/>
            <a:ext cx="414648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Which container holds the greater amount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How much </a:t>
            </a:r>
            <a:r>
              <a:rPr b="1" lang="en-GB" sz="1500" spc="-1" strike="noStrike">
                <a:solidFill>
                  <a:srgbClr val="000000"/>
                </a:solidFill>
                <a:latin typeface="Trebuchet MS"/>
              </a:rPr>
              <a:t>more</a:t>
            </a: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 does it hold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Give your answer in millilitre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171880" y="733320"/>
            <a:ext cx="360972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4T11:40:37Z</dcterms:created>
  <dc:creator>MDawes</dc:creator>
  <dc:description/>
  <dc:language>en-US</dc:language>
  <cp:lastModifiedBy>MDawes</cp:lastModifiedBy>
  <dcterms:modified xsi:type="dcterms:W3CDTF">2007-07-04T11:40:38Z</dcterms:modified>
  <cp:revision>1</cp:revision>
  <dc:subject/>
  <dc:title>Slide 1</dc:title>
</cp:coreProperties>
</file>