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7B8-7A22-4534-BD59-CF356F0B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472-3BE6-4E07-A0CD-25D8595C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41D-67B3-4168-BC77-9662830E9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F2F-C806-44C5-9A12-3724BC72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41D-1A53-45CA-9638-F53FD3B1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FE5-0AF4-4232-BB4F-0A66B6EE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35F-85BF-4199-9ABA-7672EB03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0A6-E40B-44E1-81B3-261ADD2D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F437-C239-4DCE-A8A8-A32B2F39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9129-CBA4-448C-B785-0584592E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698-2B3A-44D3-822B-9F0E90F7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B96-83CE-45B0-8973-E2A4423D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F994-79A5-4A3D-9C58-4AC1BE629F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33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SSM - ang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317680"/>
            <a:ext cx="770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other questions could you wri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g an isosceles triangle has an angle of 40°. What could the angles be? (40, 40, 100 or 40, 70, 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17360" y="441360"/>
            <a:ext cx="3432240" cy="1874520"/>
            <a:chOff x="117360" y="441360"/>
            <a:chExt cx="3432240" cy="1874520"/>
          </a:xfrm>
        </p:grpSpPr>
        <p:sp>
          <p:nvSpPr>
            <p:cNvPr id="46" name=""/>
            <p:cNvSpPr/>
            <p:nvPr/>
          </p:nvSpPr>
          <p:spPr>
            <a:xfrm>
              <a:off x="146160" y="1308240"/>
              <a:ext cx="34034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b)  A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right-angled triangle 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has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two equal side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Write the sizes of the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angle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in this triangl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_______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_______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_______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7360" y="441360"/>
              <a:ext cx="34038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a)  A triangle has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three equal side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Write the sizes of the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angle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in this triangl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_______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_______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_______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337000" y="0"/>
            <a:ext cx="16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Tri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1800" y="0"/>
            <a:ext cx="163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Triang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8280" y="393840"/>
            <a:ext cx="48704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a)  A triangle has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three equal side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rite the sizes of the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angle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in this triangl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6440" y="2260440"/>
            <a:ext cx="487044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b)  A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right-angled triangle 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as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two equal side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rite the sizes of the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angle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in this triangl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40:28Z</dcterms:created>
  <dc:creator>MDawes</dc:creator>
  <dc:description/>
  <dc:language>en-US</dc:language>
  <cp:lastModifiedBy>MDawes</cp:lastModifiedBy>
  <dcterms:modified xsi:type="dcterms:W3CDTF">2007-07-04T11:40:29Z</dcterms:modified>
  <cp:revision>1</cp:revision>
  <dc:subject/>
  <dc:title>Slide 1</dc:title>
</cp:coreProperties>
</file>