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C71-86E2-4B79-A8A4-52A091C4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652-0356-4599-A62D-E9E8657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F0A-FA10-44F3-8B0A-37D9DFC8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AE0-A1BE-4CC2-B021-6964C4BE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02F-DE72-4BC2-AB8E-90D0D01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1AC-18FD-4194-B1A6-4B25BDC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F43-7A00-438F-AB53-5B8493E3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11F-A45F-40D3-8190-2804935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DF2-88FC-47D2-8D87-EA4C9F1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DB1-2A8B-42D0-BA42-5268767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334-3A83-4D2C-96F7-32BE37C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7C6-B8D9-47A6-AE4B-13298D4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C5A-14D6-4250-A771-F0694F0FA5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680" y="40968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56440" y="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0"/>
            <a:ext cx="420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Prob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03960" y="0"/>
            <a:ext cx="13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w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4600" y="479520"/>
            <a:ext cx="4718160" cy="3573720"/>
            <a:chOff x="174600" y="479520"/>
            <a:chExt cx="4718160" cy="3573720"/>
          </a:xfrm>
        </p:grpSpPr>
        <p:sp>
          <p:nvSpPr>
            <p:cNvPr id="46" name=""/>
            <p:cNvSpPr/>
            <p:nvPr/>
          </p:nvSpPr>
          <p:spPr>
            <a:xfrm>
              <a:off x="4282920" y="3846600"/>
              <a:ext cx="12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51240" y="3594240"/>
              <a:ext cx="37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3680" y="2336760"/>
              <a:ext cx="4699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He is going to take a sweet from the bag at rando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(a)  What is the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</a:rPr>
                <a:t>probability 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that Fred will get a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</a:rPr>
                <a:t>black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 sweet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(b)  Write the missing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</a:rPr>
                <a:t>colour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 in the sentence below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The probability that Fred will get a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</a:rPr>
                <a:t>________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 sweet 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112840" y="569880"/>
              <a:ext cx="1568520" cy="17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74600" y="479520"/>
              <a:ext cx="210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Fred has a bag of swee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88840" y="4098960"/>
            <a:ext cx="5747040" cy="1326600"/>
            <a:chOff x="888840" y="4098960"/>
            <a:chExt cx="5747040" cy="1326600"/>
          </a:xfrm>
        </p:grpSpPr>
        <p:sp>
          <p:nvSpPr>
            <p:cNvPr id="52" name=""/>
            <p:cNvSpPr/>
            <p:nvPr/>
          </p:nvSpPr>
          <p:spPr>
            <a:xfrm>
              <a:off x="888840" y="4098960"/>
              <a:ext cx="574704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800080"/>
                  </a:solidFill>
                  <a:latin typeface="Trebuchet MS"/>
                </a:rPr>
                <a:t>Pupils should make up their own questions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800080"/>
                  </a:solidFill>
                  <a:latin typeface="Trebuchet MS"/>
                </a:rPr>
                <a:t>Which sweets could Fred eat so the probability the next one is purple is      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5640" y="5153040"/>
              <a:ext cx="1713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70080" y="4813200"/>
              <a:ext cx="4701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800080"/>
                  </a:solidFill>
                  <a:latin typeface="Trebuchet MS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800080"/>
                  </a:solidFill>
                  <a:latin typeface="Trebuchet MS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84600" y="41400"/>
            <a:ext cx="13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w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498600"/>
            <a:ext cx="294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Fred has a bag of swee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38600" y="600120"/>
            <a:ext cx="2228760" cy="249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6440" y="3165480"/>
            <a:ext cx="664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e is going to take a sweet from the bag at ran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a)  What is the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probability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at Fred will get a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black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swee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b)  Write the missing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colour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n the sentence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 probability that Fred will get a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swee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9320" y="4956120"/>
            <a:ext cx="469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24520" y="5295960"/>
            <a:ext cx="17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20:24Z</dcterms:created>
  <dc:creator>MDawes</dc:creator>
  <dc:description/>
  <dc:language>en-US</dc:language>
  <cp:lastModifiedBy>MDawes</cp:lastModifiedBy>
  <dcterms:modified xsi:type="dcterms:W3CDTF">2007-07-04T11:20:25Z</dcterms:modified>
  <cp:revision>1</cp:revision>
  <dc:subject/>
  <dc:title>Slide 1</dc:title>
</cp:coreProperties>
</file>