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638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51B-1FE0-4BF3-8832-B053D46C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6858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37960"/>
            <a:ext cx="6858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749-63EA-45CA-9C0B-94B49BF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3796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3796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07C-01E8-46D8-8F9A-D29D19F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4908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4908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3796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3796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37960"/>
            <a:ext cx="2207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9BC-C3FB-47D8-BA2F-E6D720C5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49080"/>
            <a:ext cx="68580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FDA-F5D6-4C05-9806-5CC09EB2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6858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587-40B4-430B-923E-7958EB9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3346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49080"/>
            <a:ext cx="3346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FBB-31F6-4929-A4AC-E14EDB2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B35-63C5-43BB-BB71-C88E2D6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4960"/>
            <a:ext cx="6858000" cy="51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648-8654-49B8-B27F-80B550F8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49080"/>
            <a:ext cx="3346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3796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E76-7805-4901-8178-CF38105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3346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3796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57D-A122-4C9B-A9BA-F134903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49080"/>
            <a:ext cx="33465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37960"/>
            <a:ext cx="6858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A02-5FD5-4D48-B6BA-481235A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68580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49080"/>
            <a:ext cx="6858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4476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4476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4476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BAB-0B29-429E-9064-9BADF1F86A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9080" y="0"/>
            <a:ext cx="6931080" cy="5616720"/>
            <a:chOff x="-19080" y="0"/>
            <a:chExt cx="6931080" cy="5616720"/>
          </a:xfrm>
        </p:grpSpPr>
        <p:sp>
          <p:nvSpPr>
            <p:cNvPr id="42" name=""/>
            <p:cNvSpPr/>
            <p:nvPr/>
          </p:nvSpPr>
          <p:spPr>
            <a:xfrm>
              <a:off x="41400" y="355680"/>
              <a:ext cx="3403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In a bag there are only red, blue and green count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I am going to take a coun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out of the bag at rando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omplete the table below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13320" y="0"/>
              <a:ext cx="30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800080"/>
                  </a:solidFill>
                  <a:uFillTx/>
                  <a:latin typeface="Trebuchet MS"/>
                </a:rPr>
                <a:t>Counter Prob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380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Trebuchet MS"/>
                </a:rPr>
                <a:t>Teacher's Notes  </a:t>
              </a:r>
              <a:r>
                <a:rPr b="1" lang="en-GB" sz="1300" spc="-1" strike="noStrike">
                  <a:solidFill>
                    <a:srgbClr val="800080"/>
                  </a:solidFill>
                  <a:latin typeface="Trebuchet MS"/>
                </a:rPr>
                <a:t>Topic: </a:t>
              </a:r>
              <a:r>
                <a:rPr b="0" lang="en-GB" sz="1300" spc="-1" strike="noStrike">
                  <a:solidFill>
                    <a:srgbClr val="4b0082"/>
                  </a:solidFill>
                  <a:latin typeface="Trebuchet MS"/>
                </a:rPr>
                <a:t>Probabil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65880" y="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b0082"/>
                  </a:solidFill>
                  <a:latin typeface="Trebuchet MS"/>
                </a:rPr>
                <a:t>L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600" y="365040"/>
              <a:ext cx="6639120" cy="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62080" y="1158840"/>
              <a:ext cx="4055760" cy="1935360"/>
              <a:chOff x="262080" y="1158840"/>
              <a:chExt cx="4055760" cy="1935360"/>
            </a:xfrm>
          </p:grpSpPr>
          <p:sp>
            <p:nvSpPr>
              <p:cNvPr id="48" name=""/>
              <p:cNvSpPr/>
              <p:nvPr/>
            </p:nvSpPr>
            <p:spPr>
              <a:xfrm>
                <a:off x="262080" y="1158840"/>
                <a:ext cx="4055760" cy="1935360"/>
              </a:xfrm>
              <a:custGeom>
                <a:avLst/>
                <a:gdLst/>
                <a:ahLst/>
                <a:rect l="l" t="t" r="r" b="b"/>
                <a:pathLst>
                  <a:path w="2555" h="1219">
                    <a:moveTo>
                      <a:pt x="0" y="0"/>
                    </a:moveTo>
                    <a:lnTo>
                      <a:pt x="2554" y="0"/>
                    </a:lnTo>
                    <a:lnTo>
                      <a:pt x="2554" y="1218"/>
                    </a:lnTo>
                    <a:lnTo>
                      <a:pt x="0" y="12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601640" y="1166760"/>
                <a:ext cx="0" cy="1917720"/>
              </a:xfrm>
              <a:prstGeom prst="line">
                <a:avLst/>
              </a:prstGeom>
              <a:ln w="38160">
                <a:solidFill>
                  <a:srgbClr val="282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890800" y="1158840"/>
                <a:ext cx="0" cy="192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279360" y="1712880"/>
                <a:ext cx="402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271440" y="2171880"/>
                <a:ext cx="403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271440" y="2616120"/>
                <a:ext cx="403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9080" y="1279440"/>
                <a:ext cx="132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Colour of Count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32040" y="1184400"/>
                <a:ext cx="8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Number o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Count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74840" y="1279440"/>
                <a:ext cx="92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Prob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8440" y="1746360"/>
                <a:ext cx="48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0000"/>
                    </a:solidFill>
                    <a:latin typeface="Trebuchet MS"/>
                  </a:rPr>
                  <a:t>R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8440" y="2679840"/>
                <a:ext cx="64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9300"/>
                    </a:solidFill>
                    <a:latin typeface="Trebuchet MS"/>
                  </a:rPr>
                  <a:t>Gre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8440" y="2232000"/>
                <a:ext cx="546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ff"/>
                    </a:solidFill>
                    <a:latin typeface="Trebuchet MS"/>
                  </a:rPr>
                  <a:t>B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22320" y="1784520"/>
                <a:ext cx="81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137040" y="2136600"/>
                <a:ext cx="812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 u="sng">
                    <a:solidFill>
                      <a:srgbClr val="000000"/>
                    </a:solidFill>
                    <a:uFillTx/>
                    <a:latin typeface="Trebuchet MS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41400" y="2698920"/>
                <a:ext cx="81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400" y="3213000"/>
              <a:ext cx="555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Trebuchet MS"/>
                </a:rPr>
                <a:t>Design another similar question.  What if R = 9,  G = 3 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32480" y="1841400"/>
              <a:ext cx="157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4b0082"/>
                  </a:solidFill>
                  <a:latin typeface="Trebuchet MS"/>
                </a:rPr>
                <a:t>What can yo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4b0082"/>
                  </a:solidFill>
                  <a:latin typeface="Trebuchet MS"/>
                </a:rPr>
                <a:t>tell me ab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4b0082"/>
                  </a:solidFill>
                  <a:latin typeface="Trebuchet MS"/>
                </a:rPr>
                <a:t>these 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4b0082"/>
                  </a:solidFill>
                  <a:latin typeface="Trebuchet MS"/>
                </a:rPr>
                <a:t>fraction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914640" y="1951200"/>
              <a:ext cx="733680" cy="18720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965040" y="2709720"/>
              <a:ext cx="675000" cy="23832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27320" y="3032280"/>
              <a:ext cx="21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7900f2"/>
                  </a:solidFill>
                  <a:latin typeface="Trebuchet MS"/>
                </a:rPr>
                <a:t>What if this was ¼ 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087720" y="2444400"/>
              <a:ext cx="331920" cy="647640"/>
            </a:xfrm>
            <a:prstGeom prst="line">
              <a:avLst/>
            </a:prstGeom>
            <a:ln w="38160">
              <a:solidFill>
                <a:srgbClr val="8f2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19080" y="3552840"/>
              <a:ext cx="6639120" cy="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3336840"/>
              <a:ext cx="5594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b)  Before I take a counter out of the bag, I put one extra blue counter into the ba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hat effect does this have on the probability that I will take a red count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Tick the correct bo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50720" y="4137120"/>
              <a:ext cx="3003840" cy="1479600"/>
              <a:chOff x="450720" y="4137120"/>
              <a:chExt cx="3003840" cy="1479600"/>
            </a:xfrm>
          </p:grpSpPr>
          <p:sp>
            <p:nvSpPr>
              <p:cNvPr id="72" name=""/>
              <p:cNvSpPr/>
              <p:nvPr/>
            </p:nvSpPr>
            <p:spPr>
              <a:xfrm>
                <a:off x="450720" y="4192560"/>
                <a:ext cx="265320" cy="274680"/>
              </a:xfrm>
              <a:custGeom>
                <a:avLst/>
                <a:gdLst/>
                <a:ahLst/>
                <a:rect l="l" t="t" r="r" b="b"/>
                <a:pathLst>
                  <a:path w="167" h="173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0720" y="4575240"/>
                <a:ext cx="265320" cy="274680"/>
              </a:xfrm>
              <a:custGeom>
                <a:avLst/>
                <a:gdLst/>
                <a:ahLst/>
                <a:rect l="l" t="t" r="r" b="b"/>
                <a:pathLst>
                  <a:path w="167" h="173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8640" y="4959360"/>
                <a:ext cx="266760" cy="274680"/>
              </a:xfrm>
              <a:custGeom>
                <a:avLst/>
                <a:gdLst/>
                <a:ahLst/>
                <a:rect l="l" t="t" r="r" b="b"/>
                <a:pathLst>
                  <a:path w="168" h="173">
                    <a:moveTo>
                      <a:pt x="0" y="0"/>
                    </a:moveTo>
                    <a:lnTo>
                      <a:pt x="167" y="0"/>
                    </a:lnTo>
                    <a:lnTo>
                      <a:pt x="167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8640" y="5343480"/>
                <a:ext cx="266760" cy="273240"/>
              </a:xfrm>
              <a:custGeom>
                <a:avLst/>
                <a:gdLst/>
                <a:ahLst/>
                <a:rect l="l" t="t" r="r" b="b"/>
                <a:pathLst>
                  <a:path w="168" h="172">
                    <a:moveTo>
                      <a:pt x="0" y="0"/>
                    </a:moveTo>
                    <a:lnTo>
                      <a:pt x="167" y="0"/>
                    </a:lnTo>
                    <a:lnTo>
                      <a:pt x="167" y="171"/>
                    </a:lnTo>
                    <a:lnTo>
                      <a:pt x="0" y="17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46080" y="4137120"/>
                <a:ext cx="2146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800080"/>
                    </a:solidFill>
                    <a:latin typeface="Trebuchet MS"/>
                  </a:rPr>
                  <a:t>The probability has increase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27000" y="4537080"/>
                <a:ext cx="218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800080"/>
                    </a:solidFill>
                    <a:latin typeface="Trebuchet MS"/>
                  </a:rPr>
                  <a:t>The probability has decrease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46080" y="4908600"/>
                <a:ext cx="250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800080"/>
                    </a:solidFill>
                    <a:latin typeface="Trebuchet MS"/>
                  </a:rPr>
                  <a:t>The probability has stayed the sa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46080" y="5299200"/>
                <a:ext cx="168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800080"/>
                    </a:solidFill>
                    <a:latin typeface="Trebuchet MS"/>
                  </a:rPr>
                  <a:t>It is impossible to tel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2976480" y="4336920"/>
              <a:ext cx="938160" cy="57960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018960" y="4729320"/>
              <a:ext cx="878040" cy="17928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138480" y="4916520"/>
              <a:ext cx="768240" cy="53640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342960" y="4916520"/>
              <a:ext cx="546120" cy="154080"/>
            </a:xfrm>
            <a:prstGeom prst="line">
              <a:avLst/>
            </a:prstGeom>
            <a:ln w="38160">
              <a:solidFill>
                <a:srgbClr val="4b0082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6680" y="4137120"/>
              <a:ext cx="2469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800080"/>
                  </a:solidFill>
                  <a:latin typeface="Trebuchet MS"/>
                </a:rPr>
                <a:t>Turn the question on it's head.  What could I do to make these happen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800080"/>
                  </a:solidFill>
                  <a:latin typeface="Trebuchet MS"/>
                </a:rPr>
                <a:t>What else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800080"/>
                  </a:solidFill>
                  <a:latin typeface="Trebuchet MS"/>
                </a:rPr>
                <a:t>What else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60680" y="41400"/>
            <a:ext cx="33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unter Prob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555480"/>
            <a:ext cx="6318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In a bag there are only red, blue and green count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(a)  I am going to take a counter out of the bag at rando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omplete the table belo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74680" y="2095560"/>
            <a:ext cx="6615000" cy="3198600"/>
            <a:chOff x="274680" y="2095560"/>
            <a:chExt cx="6615000" cy="3198600"/>
          </a:xfrm>
        </p:grpSpPr>
        <p:sp>
          <p:nvSpPr>
            <p:cNvPr id="88" name=""/>
            <p:cNvSpPr/>
            <p:nvPr/>
          </p:nvSpPr>
          <p:spPr>
            <a:xfrm>
              <a:off x="274680" y="2095560"/>
              <a:ext cx="6615000" cy="3198600"/>
            </a:xfrm>
            <a:custGeom>
              <a:avLst/>
              <a:gdLst/>
              <a:ahLst/>
              <a:rect l="l" t="t" r="r" b="b"/>
              <a:pathLst>
                <a:path w="4167" h="2015">
                  <a:moveTo>
                    <a:pt x="0" y="0"/>
                  </a:moveTo>
                  <a:lnTo>
                    <a:pt x="4166" y="0"/>
                  </a:lnTo>
                  <a:lnTo>
                    <a:pt x="4166" y="2014"/>
                  </a:lnTo>
                  <a:lnTo>
                    <a:pt x="0" y="20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60600" y="2109960"/>
              <a:ext cx="0" cy="3168360"/>
            </a:xfrm>
            <a:prstGeom prst="line">
              <a:avLst/>
            </a:prstGeom>
            <a:ln w="381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62640" y="2095560"/>
              <a:ext cx="0" cy="31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03120" y="3011400"/>
              <a:ext cx="65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8720" y="3772080"/>
              <a:ext cx="658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8720" y="4503600"/>
              <a:ext cx="658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960" y="2346480"/>
              <a:ext cx="20703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Colour of Count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70280" y="2184480"/>
              <a:ext cx="12319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Number of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Count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70600" y="2346480"/>
              <a:ext cx="1441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Prob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55800" y="3137040"/>
              <a:ext cx="90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0000"/>
                  </a:solidFill>
                  <a:latin typeface="Trebuchet MS"/>
                </a:rPr>
                <a:t>R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8560" y="4632480"/>
              <a:ext cx="11365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9300"/>
                  </a:solidFill>
                  <a:latin typeface="Trebuchet MS"/>
                </a:rPr>
                <a:t>Gree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55800" y="3889440"/>
              <a:ext cx="946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ff"/>
                  </a:solidFill>
                  <a:latin typeface="Trebuchet MS"/>
                </a:rPr>
                <a:t>Blu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0560" y="3174840"/>
              <a:ext cx="12319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3746520"/>
              <a:ext cx="1231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79640" y="4680000"/>
              <a:ext cx="12319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6160" y="127080"/>
            <a:ext cx="696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(b)  Before I take a counter out of the bag, I put one extra blue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counter into the b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What effect does this have on the probability that I will take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a red coun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Tick the correct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593800"/>
            <a:ext cx="5321520" cy="2687760"/>
            <a:chOff x="838080" y="2593800"/>
            <a:chExt cx="5321520" cy="2687760"/>
          </a:xfrm>
        </p:grpSpPr>
        <p:sp>
          <p:nvSpPr>
            <p:cNvPr id="105" name=""/>
            <p:cNvSpPr/>
            <p:nvPr/>
          </p:nvSpPr>
          <p:spPr>
            <a:xfrm>
              <a:off x="838080" y="2641680"/>
              <a:ext cx="474840" cy="507960"/>
            </a:xfrm>
            <a:custGeom>
              <a:avLst/>
              <a:gdLst/>
              <a:ahLst/>
              <a:rect l="l" t="t" r="r" b="b"/>
              <a:pathLst>
                <a:path w="299" h="320">
                  <a:moveTo>
                    <a:pt x="0" y="0"/>
                  </a:moveTo>
                  <a:lnTo>
                    <a:pt x="298" y="0"/>
                  </a:lnTo>
                  <a:lnTo>
                    <a:pt x="298" y="319"/>
                  </a:lnTo>
                  <a:lnTo>
                    <a:pt x="0" y="3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352680"/>
              <a:ext cx="474840" cy="507960"/>
            </a:xfrm>
            <a:custGeom>
              <a:avLst/>
              <a:gdLst/>
              <a:ahLst/>
              <a:rect l="l" t="t" r="r" b="b"/>
              <a:pathLst>
                <a:path w="299" h="320">
                  <a:moveTo>
                    <a:pt x="0" y="0"/>
                  </a:moveTo>
                  <a:lnTo>
                    <a:pt x="298" y="0"/>
                  </a:lnTo>
                  <a:lnTo>
                    <a:pt x="298" y="319"/>
                  </a:lnTo>
                  <a:lnTo>
                    <a:pt x="0" y="3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920" y="4064040"/>
              <a:ext cx="474840" cy="506520"/>
            </a:xfrm>
            <a:custGeom>
              <a:avLst/>
              <a:gdLst/>
              <a:ahLst/>
              <a:rect l="l" t="t" r="r" b="b"/>
              <a:pathLst>
                <a:path w="299" h="319">
                  <a:moveTo>
                    <a:pt x="0" y="0"/>
                  </a:moveTo>
                  <a:lnTo>
                    <a:pt x="298" y="0"/>
                  </a:lnTo>
                  <a:lnTo>
                    <a:pt x="29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3920" y="4775040"/>
              <a:ext cx="474840" cy="506520"/>
            </a:xfrm>
            <a:custGeom>
              <a:avLst/>
              <a:gdLst/>
              <a:ahLst/>
              <a:rect l="l" t="t" r="r" b="b"/>
              <a:pathLst>
                <a:path w="299" h="319">
                  <a:moveTo>
                    <a:pt x="0" y="0"/>
                  </a:moveTo>
                  <a:lnTo>
                    <a:pt x="298" y="0"/>
                  </a:lnTo>
                  <a:lnTo>
                    <a:pt x="298" y="318"/>
                  </a:lnTo>
                  <a:lnTo>
                    <a:pt x="0" y="3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65440" y="2593800"/>
              <a:ext cx="372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0080"/>
                  </a:solidFill>
                  <a:latin typeface="Trebuchet MS"/>
                </a:rPr>
                <a:t>The probability has increased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36640" y="3336840"/>
              <a:ext cx="3784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0080"/>
                  </a:solidFill>
                  <a:latin typeface="Trebuchet MS"/>
                </a:rPr>
                <a:t>The probability has decreased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65440" y="4032360"/>
              <a:ext cx="4394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0080"/>
                  </a:solidFill>
                  <a:latin typeface="Trebuchet MS"/>
                </a:rPr>
                <a:t>The probability has stayed the sam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65440" y="4746600"/>
              <a:ext cx="2908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800080"/>
                  </a:solidFill>
                  <a:latin typeface="Trebuchet MS"/>
                </a:rPr>
                <a:t>It is impossible to tell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23:09Z</dcterms:created>
  <dc:creator>MDawes</dc:creator>
  <dc:description/>
  <dc:language>en-US</dc:language>
  <cp:lastModifiedBy>MDawes</cp:lastModifiedBy>
  <dcterms:modified xsi:type="dcterms:W3CDTF">2007-07-04T11:23:10Z</dcterms:modified>
  <cp:revision>1</cp:revision>
  <dc:subject/>
  <dc:title>Slide 1</dc:title>
</cp:coreProperties>
</file>