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AFD-1784-46B4-8807-E63612F7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1C2-1618-4316-BC3C-231EDA3B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4F1-0E56-4F8E-A58E-628012E2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F71-6B36-4112-BDE2-CDBC0D80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FF1-5580-4D7A-8590-889D9F32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1F9-AEE3-4DDB-A45A-7FE3CCEA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D9A-9D1F-47C5-92C3-D99876B8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9D4-7587-45A2-9516-B0142ADC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FAB-BD3F-4484-A7E1-25DFCC01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1E3-57F9-4C80-BF93-BC75A878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5CA-03AD-4DD2-A247-8FDE7303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9D3-5846-4D7C-8FB0-123B8646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B0D8-EA3A-43DE-AD39-FF62947907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60" y="136440"/>
            <a:ext cx="52513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Probability / Frac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65800" y="203040"/>
            <a:ext cx="5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b0082"/>
                </a:solidFill>
                <a:latin typeface="Trebuchet MS"/>
              </a:rPr>
              <a:t>L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3840" y="61920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8400" y="343224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changes can you m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e.g. 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different f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       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extra 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different numbers of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08560" y="146160"/>
            <a:ext cx="1650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 u="sng">
                <a:solidFill>
                  <a:srgbClr val="800080"/>
                </a:solidFill>
                <a:uFillTx/>
                <a:latin typeface="Trebuchet MS"/>
              </a:rPr>
              <a:t>Count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55520" y="669960"/>
            <a:ext cx="4660920" cy="2383200"/>
            <a:chOff x="155520" y="669960"/>
            <a:chExt cx="4660920" cy="2383200"/>
          </a:xfrm>
        </p:grpSpPr>
        <p:sp>
          <p:nvSpPr>
            <p:cNvPr id="47" name=""/>
            <p:cNvSpPr/>
            <p:nvPr/>
          </p:nvSpPr>
          <p:spPr>
            <a:xfrm>
              <a:off x="1055520" y="1050840"/>
              <a:ext cx="2927520" cy="1347840"/>
            </a:xfrm>
            <a:custGeom>
              <a:avLst/>
              <a:gdLst/>
              <a:ahLst/>
              <a:rect l="l" t="t" r="r" b="b"/>
              <a:pathLst>
                <a:path w="1844" h="849">
                  <a:moveTo>
                    <a:pt x="0" y="0"/>
                  </a:moveTo>
                  <a:lnTo>
                    <a:pt x="1843" y="0"/>
                  </a:lnTo>
                  <a:lnTo>
                    <a:pt x="1843" y="848"/>
                  </a:lnTo>
                  <a:lnTo>
                    <a:pt x="0" y="84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65280" y="1812960"/>
              <a:ext cx="235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of the counters are </a:t>
              </a: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</a:rPr>
                <a:t>bl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46200" y="1222200"/>
              <a:ext cx="220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of the counters are </a:t>
              </a: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</a:rPr>
                <a:t>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79440" y="1708200"/>
              <a:ext cx="39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 u="sng">
                  <a:solidFill>
                    <a:srgbClr val="000000"/>
                  </a:solidFill>
                  <a:uFillTx/>
                  <a:latin typeface="Trebuchet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89160" y="1098720"/>
              <a:ext cx="39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 u="sng">
                  <a:solidFill>
                    <a:srgbClr val="000000"/>
                  </a:solidFill>
                  <a:uFillTx/>
                  <a:latin typeface="Trebuchet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365200"/>
              <a:ext cx="35370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There are </a:t>
              </a:r>
              <a:r>
                <a:rPr b="1" lang="en-GB" sz="1300" spc="-1" strike="noStrike">
                  <a:solidFill>
                    <a:srgbClr val="000000"/>
                  </a:solidFill>
                  <a:latin typeface="Trebuchet MS"/>
                </a:rPr>
                <a:t>15 green</a:t>
              </a: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 counters in the bag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How many</a:t>
              </a:r>
              <a:r>
                <a:rPr b="1" lang="en-GB" sz="1300" spc="-1" strike="noStrike">
                  <a:solidFill>
                    <a:srgbClr val="000000"/>
                  </a:solidFill>
                  <a:latin typeface="Trebuchet MS"/>
                </a:rPr>
                <a:t> black </a:t>
              </a: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counters are in the bag ?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5520" y="669960"/>
              <a:ext cx="4660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A bag contains counters that are</a:t>
              </a:r>
              <a:r>
                <a:rPr b="1" lang="en-GB" sz="1300" spc="-1" strike="noStrike">
                  <a:solidFill>
                    <a:srgbClr val="000000"/>
                  </a:solidFill>
                  <a:latin typeface="Trebuchet MS"/>
                </a:rPr>
                <a:t> red, black</a:t>
              </a: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, or </a:t>
              </a:r>
              <a:r>
                <a:rPr b="1" lang="en-GB" sz="1300" spc="-1" strike="noStrike">
                  <a:solidFill>
                    <a:srgbClr val="000000"/>
                  </a:solidFill>
                  <a:latin typeface="Trebuchet MS"/>
                </a:rPr>
                <a:t>green</a:t>
              </a: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7080" y="412920"/>
            <a:ext cx="62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A bag contains counters that are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 red, black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, or 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green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2120" y="3432240"/>
            <a:ext cx="475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There are 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15 green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counters in the b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How many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 black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ounters are in the bag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89120" y="117468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9400" y="2013120"/>
            <a:ext cx="4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41560" y="1346040"/>
            <a:ext cx="2927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f the counters are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r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70000" y="2155680"/>
            <a:ext cx="31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of the counters are 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65320" y="0"/>
            <a:ext cx="1650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 u="sng">
                <a:solidFill>
                  <a:srgbClr val="800080"/>
                </a:solidFill>
                <a:uFillTx/>
                <a:latin typeface="Trebuchet MS"/>
              </a:rPr>
              <a:t>Count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52520" y="1085760"/>
            <a:ext cx="3963960" cy="1859040"/>
          </a:xfrm>
          <a:custGeom>
            <a:avLst/>
            <a:gdLst/>
            <a:ahLst/>
            <a:rect l="l" t="t" r="r" b="b"/>
            <a:pathLst>
              <a:path w="2497" h="1171">
                <a:moveTo>
                  <a:pt x="0" y="0"/>
                </a:moveTo>
                <a:lnTo>
                  <a:pt x="2496" y="0"/>
                </a:lnTo>
                <a:lnTo>
                  <a:pt x="2496" y="1170"/>
                </a:lnTo>
                <a:lnTo>
                  <a:pt x="0" y="117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31:02Z</dcterms:created>
  <dc:creator>MDawes</dc:creator>
  <dc:description/>
  <dc:language>en-US</dc:language>
  <cp:lastModifiedBy>MDawes</cp:lastModifiedBy>
  <dcterms:modified xsi:type="dcterms:W3CDTF">2007-07-04T11:31:03Z</dcterms:modified>
  <cp:revision>1</cp:revision>
  <dc:subject/>
  <dc:title>Slide 1</dc:title>
</cp:coreProperties>
</file>