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A15-808D-4DAD-8E0D-6BB0AF76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7E2-A4B1-455F-899E-ACDCAF2E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F66-006F-4EAC-98D2-798B7A81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63F-AF9A-473E-BBAB-017F8AD6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5D0-FD72-42C7-910A-5C9F64C1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1AB-2FF5-4A01-A9E6-E49129A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B2B-FF97-4D0E-B64F-8A1E3F4E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63B-875A-4150-AD60-431BAEF7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807-D699-480D-BA74-349568D5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541-8C04-4EF2-BBEC-6CA4D93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B2C-7C31-4B58-B4A6-E61CF03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E19-4A77-4F38-AD68-9C1258C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49E-7521-4185-96F5-4B258B2181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200" y="69840"/>
            <a:ext cx="3994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23080" y="127080"/>
            <a:ext cx="507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528480"/>
            <a:ext cx="702288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8880" y="41400"/>
            <a:ext cx="109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800080"/>
                </a:solidFill>
                <a:uFillTx/>
                <a:latin typeface="Trebuchet MS"/>
              </a:rPr>
              <a:t>Coi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98440" y="574560"/>
            <a:ext cx="4152960" cy="1814040"/>
            <a:chOff x="298440" y="574560"/>
            <a:chExt cx="4152960" cy="1814040"/>
          </a:xfrm>
        </p:grpSpPr>
        <p:sp>
          <p:nvSpPr>
            <p:cNvPr id="46" name=""/>
            <p:cNvSpPr/>
            <p:nvPr/>
          </p:nvSpPr>
          <p:spPr>
            <a:xfrm>
              <a:off x="932040" y="1017720"/>
              <a:ext cx="3519360" cy="1039680"/>
            </a:xfrm>
            <a:custGeom>
              <a:avLst/>
              <a:gdLst/>
              <a:ahLst/>
              <a:rect l="l" t="t" r="r" b="b"/>
              <a:pathLst>
                <a:path w="2217" h="655">
                  <a:moveTo>
                    <a:pt x="0" y="0"/>
                  </a:moveTo>
                  <a:lnTo>
                    <a:pt x="2216" y="0"/>
                  </a:lnTo>
                  <a:lnTo>
                    <a:pt x="2216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8440" y="574560"/>
              <a:ext cx="32702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A teacher has some coins in his pocke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He is going to take one of the coins at random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He say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8440" y="2127240"/>
              <a:ext cx="3079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List all the coins that could be in his pocke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22400" y="1031760"/>
              <a:ext cx="336528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A.  There are more than four coins in my pocke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B.  The total value of the coins is 25p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C.  The probability that I will take a 1p coin is </a:t>
              </a: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¼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355920" y="2060640"/>
            <a:ext cx="35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Try the original question (brief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2476440"/>
            <a:ext cx="70214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5520" y="2546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Version 2:  the question but without stateme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760" y="3079800"/>
            <a:ext cx="70214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5520" y="3156120"/>
            <a:ext cx="50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Version 3:  the question but without stateme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480" y="3657600"/>
            <a:ext cx="70214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5240" y="3727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Version 4:  the question but without statem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760" y="4179960"/>
            <a:ext cx="70214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080" y="4127400"/>
            <a:ext cx="721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Now repeat the original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Which of the 'Versions' made it easiest to answer the original ques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Why can't there be 6 coi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Trebuchet MS"/>
              </a:rPr>
              <a:t>How many different answers a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03320" y="2270160"/>
            <a:ext cx="53848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.  There are more than four coins in my pock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B.  The total value of the coins is 25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.  The probability that I will take a 1p coin i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¼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4346640"/>
            <a:ext cx="49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List all the coins that could be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5240" y="584280"/>
            <a:ext cx="53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teacher has some coins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is going to take one of the coins at ran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7040" y="50760"/>
            <a:ext cx="115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219400"/>
            <a:ext cx="5720040" cy="1722240"/>
          </a:xfrm>
          <a:custGeom>
            <a:avLst/>
            <a:gdLst/>
            <a:ahLst/>
            <a:rect l="l" t="t" r="r" b="b"/>
            <a:pathLst>
              <a:path w="3603" h="1085">
                <a:moveTo>
                  <a:pt x="0" y="0"/>
                </a:moveTo>
                <a:lnTo>
                  <a:pt x="3602" y="0"/>
                </a:lnTo>
                <a:lnTo>
                  <a:pt x="3602" y="1084"/>
                </a:lnTo>
                <a:lnTo>
                  <a:pt x="0" y="108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520000">
            <a:off x="5400" y="12600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Trebuchet MS"/>
              </a:rPr>
              <a:t>Original 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03320" y="2270160"/>
            <a:ext cx="53848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.  There are more than four coins in my pock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B.  The total value of the coins is 25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.  The probability that I will take a 1p coin i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¼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200" y="4346640"/>
            <a:ext cx="49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List all the coins that could be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5240" y="584280"/>
            <a:ext cx="53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teacher has some coins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is going to take one of the coins at ran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7040" y="50760"/>
            <a:ext cx="115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19400"/>
            <a:ext cx="5720040" cy="1722240"/>
          </a:xfrm>
          <a:custGeom>
            <a:avLst/>
            <a:gdLst/>
            <a:ahLst/>
            <a:rect l="l" t="t" r="r" b="b"/>
            <a:pathLst>
              <a:path w="3603" h="1085">
                <a:moveTo>
                  <a:pt x="0" y="0"/>
                </a:moveTo>
                <a:lnTo>
                  <a:pt x="3602" y="0"/>
                </a:lnTo>
                <a:lnTo>
                  <a:pt x="3602" y="1084"/>
                </a:lnTo>
                <a:lnTo>
                  <a:pt x="0" y="108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520000">
            <a:off x="5400" y="12600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Trebuchet MS"/>
              </a:rPr>
              <a:t>Vers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400560"/>
            <a:ext cx="5249880" cy="401400"/>
          </a:xfrm>
          <a:custGeom>
            <a:avLst/>
            <a:gdLst/>
            <a:ahLst/>
            <a:rect l="l" t="t" r="r" b="b"/>
            <a:pathLst>
              <a:path w="3307" h="253">
                <a:moveTo>
                  <a:pt x="0" y="0"/>
                </a:moveTo>
                <a:lnTo>
                  <a:pt x="3306" y="0"/>
                </a:lnTo>
                <a:lnTo>
                  <a:pt x="3306" y="252"/>
                </a:lnTo>
                <a:lnTo>
                  <a:pt x="0" y="25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3320" y="2270160"/>
            <a:ext cx="53848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.  There are more than four coins in my pock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B.  The total value of the coins is 25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.  The probability that I will take a 1p coin i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¼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200" y="4346640"/>
            <a:ext cx="49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List all the coins that could be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5240" y="584280"/>
            <a:ext cx="53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teacher has some coins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is going to take one of the coins at ran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7040" y="50760"/>
            <a:ext cx="115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219400"/>
            <a:ext cx="5720040" cy="1722240"/>
          </a:xfrm>
          <a:custGeom>
            <a:avLst/>
            <a:gdLst/>
            <a:ahLst/>
            <a:rect l="l" t="t" r="r" b="b"/>
            <a:pathLst>
              <a:path w="3603" h="1085">
                <a:moveTo>
                  <a:pt x="0" y="0"/>
                </a:moveTo>
                <a:lnTo>
                  <a:pt x="3602" y="0"/>
                </a:lnTo>
                <a:lnTo>
                  <a:pt x="3602" y="1084"/>
                </a:lnTo>
                <a:lnTo>
                  <a:pt x="0" y="108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520000">
            <a:off x="5400" y="12600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Trebuchet MS"/>
              </a:rPr>
              <a:t>Vers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838600"/>
            <a:ext cx="5249880" cy="401400"/>
          </a:xfrm>
          <a:custGeom>
            <a:avLst/>
            <a:gdLst/>
            <a:ahLst/>
            <a:rect l="l" t="t" r="r" b="b"/>
            <a:pathLst>
              <a:path w="3307" h="253">
                <a:moveTo>
                  <a:pt x="0" y="0"/>
                </a:moveTo>
                <a:lnTo>
                  <a:pt x="3306" y="0"/>
                </a:lnTo>
                <a:lnTo>
                  <a:pt x="3306" y="252"/>
                </a:lnTo>
                <a:lnTo>
                  <a:pt x="0" y="252"/>
                </a:lnTo>
                <a:lnTo>
                  <a:pt x="0" y="0"/>
                </a:lnTo>
                <a:close/>
              </a:path>
            </a:pathLst>
          </a:custGeom>
          <a:solidFill>
            <a:srgbClr val="98fb98"/>
          </a:solidFill>
          <a:ln w="38160">
            <a:solidFill>
              <a:srgbClr val="98fb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320" y="2270160"/>
            <a:ext cx="53848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.  There are more than four coins in my pock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B.  The total value of the coins is 25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.  The probability that I will take a 1p coin i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¼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200" y="4346640"/>
            <a:ext cx="49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List all the coins that could be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5240" y="584280"/>
            <a:ext cx="53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teacher has some coins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is going to take one of the coins at ran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7040" y="50760"/>
            <a:ext cx="115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219400"/>
            <a:ext cx="5720040" cy="1722240"/>
          </a:xfrm>
          <a:custGeom>
            <a:avLst/>
            <a:gdLst/>
            <a:ahLst/>
            <a:rect l="l" t="t" r="r" b="b"/>
            <a:pathLst>
              <a:path w="3603" h="1085">
                <a:moveTo>
                  <a:pt x="0" y="0"/>
                </a:moveTo>
                <a:lnTo>
                  <a:pt x="3602" y="0"/>
                </a:lnTo>
                <a:lnTo>
                  <a:pt x="3602" y="1084"/>
                </a:lnTo>
                <a:lnTo>
                  <a:pt x="0" y="108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520000">
            <a:off x="5400" y="12600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Trebuchet MS"/>
              </a:rPr>
              <a:t>Vers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81000" y="2314440"/>
            <a:ext cx="5249880" cy="401760"/>
          </a:xfrm>
          <a:custGeom>
            <a:avLst/>
            <a:gdLst/>
            <a:ahLst/>
            <a:rect l="l" t="t" r="r" b="b"/>
            <a:pathLst>
              <a:path w="3307" h="253">
                <a:moveTo>
                  <a:pt x="0" y="0"/>
                </a:moveTo>
                <a:lnTo>
                  <a:pt x="3306" y="0"/>
                </a:lnTo>
                <a:lnTo>
                  <a:pt x="3306" y="252"/>
                </a:lnTo>
                <a:lnTo>
                  <a:pt x="0" y="25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03320" y="2270160"/>
            <a:ext cx="53848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.  There are more than four coins in my pock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B.  The total value of the coins is 25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.  The probability that I will take a 1p coin i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¼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200" y="4346640"/>
            <a:ext cx="49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List all the coins that could be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240" y="584280"/>
            <a:ext cx="53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 teacher has some coins in his p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is going to take one of the coins at ran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7040" y="50760"/>
            <a:ext cx="115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219400"/>
            <a:ext cx="5720040" cy="1722240"/>
          </a:xfrm>
          <a:custGeom>
            <a:avLst/>
            <a:gdLst/>
            <a:ahLst/>
            <a:rect l="l" t="t" r="r" b="b"/>
            <a:pathLst>
              <a:path w="3603" h="1085">
                <a:moveTo>
                  <a:pt x="0" y="0"/>
                </a:moveTo>
                <a:lnTo>
                  <a:pt x="3602" y="0"/>
                </a:lnTo>
                <a:lnTo>
                  <a:pt x="3602" y="1084"/>
                </a:lnTo>
                <a:lnTo>
                  <a:pt x="0" y="108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0520000">
            <a:off x="5400" y="12600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Trebuchet MS"/>
              </a:rPr>
              <a:t>Original 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2:26Z</dcterms:created>
  <dc:creator>MDawes</dc:creator>
  <dc:description/>
  <dc:language>en-US</dc:language>
  <cp:lastModifiedBy>MDawes</cp:lastModifiedBy>
  <dcterms:modified xsi:type="dcterms:W3CDTF">2007-07-04T11:32:27Z</dcterms:modified>
  <cp:revision>1</cp:revision>
  <dc:subject/>
  <dc:title>Slide 1</dc:title>
</cp:coreProperties>
</file>