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797-1C61-4E6C-B401-85A13576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72C-B2AD-40A1-A4A4-8D173A80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9B4-6121-4880-9C4B-1B2AB234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775-895A-46EA-88EF-DC2EC2F5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53B-DFCB-49FB-AF8A-7903B52D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01D-0A18-4AAF-A6E3-F813DE41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ABD-CBD1-4B03-8FA3-C8A7DE1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3CF-640C-483B-9909-05DD1DC3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022-7A4B-4E10-AC0C-99ABCB8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C7C-EC88-4FC7-B96A-CF75B39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25D-7EC0-4898-BB78-D1403B3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AD1-3E57-4C9C-ACD1-AD21D00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F0E-C705-4783-84C5-CD59B3C460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2280" y="2308320"/>
            <a:ext cx="59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Look at the diagram.  What can you tell me about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How many people said 'Yes' ?  [we don't know 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90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Num - percent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840" y="546120"/>
            <a:ext cx="441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rebuchet MS"/>
              </a:rPr>
              <a:t>Carlos asked people:  'Have you ever been to North America?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rebuchet MS"/>
              </a:rPr>
              <a:t>The percentage bar chart shows his resul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56240" y="0"/>
            <a:ext cx="13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298116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440" y="3098880"/>
            <a:ext cx="20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40 people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said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No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How many people said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Yes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4727520"/>
            <a:ext cx="47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f 5 people said 'Yes'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f 240 people said 'No'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f there were 60 people altogethe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240" y="1400040"/>
            <a:ext cx="4557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1800" y="0"/>
            <a:ext cx="13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280" y="393840"/>
            <a:ext cx="5747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arlos asked people:  'Have you ever been to North America?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percentage bar chart shows his resul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240" y="1467000"/>
            <a:ext cx="62863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212760"/>
            <a:ext cx="4165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percentage bar chart shows his resul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20" y="2603520"/>
            <a:ext cx="2813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40 peopl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sai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No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ow many people sai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Y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3840" y="1209600"/>
            <a:ext cx="62863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8:09Z</dcterms:created>
  <dc:creator>MDawes</dc:creator>
  <dc:description/>
  <dc:language>en-US</dc:language>
  <cp:lastModifiedBy>MDawes</cp:lastModifiedBy>
  <dcterms:modified xsi:type="dcterms:W3CDTF">2007-07-04T11:38:10Z</dcterms:modified>
  <cp:revision>1</cp:revision>
  <dc:subject/>
  <dc:title>Slide 1</dc:title>
</cp:coreProperties>
</file>