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DE3-30E2-4FB3-8DA9-FB878184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C08-2633-4F3E-BA37-F5CF245B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433-66CC-4317-BD01-2BF9C4AD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89A-F4BC-45A0-9092-0509AE82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126-D7FD-4720-9EF4-06AC8259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DF8-0ECD-4488-AC40-2599D9C1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BE0-1833-4615-9014-2BA046DA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7A1-F92D-4612-A6B4-65847A51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D09-1793-4583-BC65-E7745750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B6C-5262-491A-9432-EE0846BE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81E-294C-45AC-8555-90C3E807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9D8-C797-4CEE-A3F4-8716F19A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A1C2-0171-4093-B1A1-E928FD6023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22720"/>
            <a:ext cx="770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Give another answer, and another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Now give an unusual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Now give a </a:t>
            </a:r>
            <a:r>
              <a:rPr b="0" lang="en-GB" sz="1800" spc="-1" strike="noStrike" u="sng">
                <a:solidFill>
                  <a:srgbClr val="800080"/>
                </a:solidFill>
                <a:uFillTx/>
                <a:latin typeface="Trebuchet MS"/>
              </a:rPr>
              <a:t>differently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 unusual one.  [eg decimals, negatives, fraction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do you notice about </a:t>
            </a:r>
            <a:r>
              <a:rPr b="0" lang="en-GB" sz="1800" spc="-1" strike="noStrike" u="sng">
                <a:solidFill>
                  <a:srgbClr val="800080"/>
                </a:solidFill>
                <a:uFillTx/>
                <a:latin typeface="Trebuchet MS"/>
              </a:rPr>
              <a:t>all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 the different pairs of values for </a:t>
            </a:r>
            <a:r>
              <a:rPr b="0" i="1" lang="en-GB" sz="1800" spc="-1" strike="noStrike">
                <a:solidFill>
                  <a:srgbClr val="800080"/>
                </a:solidFill>
                <a:latin typeface="Trebuchet MS"/>
              </a:rPr>
              <a:t>a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 and </a:t>
            </a:r>
            <a:r>
              <a:rPr b="0" i="1" lang="en-GB" sz="1800" spc="-1" strike="noStrike">
                <a:solidFill>
                  <a:srgbClr val="800080"/>
                </a:solidFill>
                <a:latin typeface="Trebuchet MS"/>
              </a:rPr>
              <a:t>b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[</a:t>
            </a:r>
            <a:r>
              <a:rPr b="0" i="1" lang="en-GB" sz="1800" spc="-1" strike="noStrike">
                <a:solidFill>
                  <a:srgbClr val="800080"/>
                </a:solidFill>
                <a:latin typeface="Trebuchet MS"/>
              </a:rPr>
              <a:t>b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 is always 4 more than </a:t>
            </a:r>
            <a:r>
              <a:rPr b="0" i="1" lang="en-GB" sz="1800" spc="-1" strike="noStrike">
                <a:solidFill>
                  <a:srgbClr val="800080"/>
                </a:solidFill>
                <a:latin typeface="Trebuchet MS"/>
              </a:rPr>
              <a:t>a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changes could you make to the questi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91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Algeb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2320" y="517680"/>
            <a:ext cx="5308560" cy="2167560"/>
            <a:chOff x="22320" y="517680"/>
            <a:chExt cx="5308560" cy="2167560"/>
          </a:xfrm>
        </p:grpSpPr>
        <p:sp>
          <p:nvSpPr>
            <p:cNvPr id="46" name=""/>
            <p:cNvSpPr/>
            <p:nvPr/>
          </p:nvSpPr>
          <p:spPr>
            <a:xfrm>
              <a:off x="22320" y="2089080"/>
              <a:ext cx="53085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Write a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different 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pair of numbers for 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and 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to make the equation tru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=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_______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=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____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1622520" y="831960"/>
              <a:ext cx="1317600" cy="461880"/>
              <a:chOff x="1622520" y="831960"/>
              <a:chExt cx="1317600" cy="461880"/>
            </a:xfrm>
          </p:grpSpPr>
          <p:sp>
            <p:nvSpPr>
              <p:cNvPr id="48" name=""/>
              <p:cNvSpPr/>
              <p:nvPr/>
            </p:nvSpPr>
            <p:spPr>
              <a:xfrm>
                <a:off x="1708200" y="831960"/>
                <a:ext cx="1231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rebuchet MS"/>
                  </a:rPr>
                  <a:t>4 +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Trebuchet MS"/>
                  </a:rPr>
                  <a:t>a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rebuchet MS"/>
                  </a:rPr>
                  <a:t> =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Trebuchet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622520" y="831960"/>
                <a:ext cx="1279440" cy="461880"/>
              </a:xfrm>
              <a:custGeom>
                <a:avLst/>
                <a:gdLst/>
                <a:ahLst/>
                <a:rect l="l" t="t" r="r" b="b"/>
                <a:pathLst>
                  <a:path w="806" h="291">
                    <a:moveTo>
                      <a:pt x="0" y="0"/>
                    </a:moveTo>
                    <a:lnTo>
                      <a:pt x="805" y="0"/>
                    </a:lnTo>
                    <a:lnTo>
                      <a:pt x="805" y="290"/>
                    </a:lnTo>
                    <a:lnTo>
                      <a:pt x="0" y="29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41400" y="1317600"/>
              <a:ext cx="4603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Write a pair of numbers for 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and 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to make the equation tru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=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_______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=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____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8000" y="517680"/>
              <a:ext cx="176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Look at this equatio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527800" y="0"/>
            <a:ext cx="14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a and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1800" y="0"/>
            <a:ext cx="14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a and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8280" y="393840"/>
            <a:ext cx="2260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Look at this equ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0" y="1774800"/>
            <a:ext cx="5937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Write a pair of numbers for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to make the equation tru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038320" y="790560"/>
            <a:ext cx="1692360" cy="611280"/>
            <a:chOff x="2038320" y="790560"/>
            <a:chExt cx="1692360" cy="611280"/>
          </a:xfrm>
        </p:grpSpPr>
        <p:sp>
          <p:nvSpPr>
            <p:cNvPr id="57" name=""/>
            <p:cNvSpPr/>
            <p:nvPr/>
          </p:nvSpPr>
          <p:spPr>
            <a:xfrm>
              <a:off x="2174760" y="812880"/>
              <a:ext cx="15559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000000"/>
                  </a:solidFill>
                  <a:latin typeface="Trebuchet MS"/>
                </a:rPr>
                <a:t>4 + </a:t>
              </a:r>
              <a:r>
                <a:rPr b="0" i="1" lang="en-GB" sz="23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2300" spc="-1" strike="noStrike">
                  <a:solidFill>
                    <a:srgbClr val="000000"/>
                  </a:solidFill>
                  <a:latin typeface="Trebuchet MS"/>
                </a:rPr>
                <a:t> = </a:t>
              </a:r>
              <a:r>
                <a:rPr b="0" i="1" lang="en-GB" sz="23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38320" y="790560"/>
              <a:ext cx="1658880" cy="611280"/>
            </a:xfrm>
            <a:custGeom>
              <a:avLst/>
              <a:gdLst/>
              <a:ahLst/>
              <a:rect l="l" t="t" r="r" b="b"/>
              <a:pathLst>
                <a:path w="1045" h="385">
                  <a:moveTo>
                    <a:pt x="0" y="0"/>
                  </a:moveTo>
                  <a:lnTo>
                    <a:pt x="1044" y="0"/>
                  </a:lnTo>
                  <a:lnTo>
                    <a:pt x="104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9200" y="3289320"/>
            <a:ext cx="6832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Write a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different 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pair of numbers for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to make the equation tru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8:34Z</dcterms:created>
  <dc:creator>MDawes</dc:creator>
  <dc:description/>
  <dc:language>en-US</dc:language>
  <cp:lastModifiedBy>MDawes</cp:lastModifiedBy>
  <dcterms:modified xsi:type="dcterms:W3CDTF">2007-07-04T11:38:35Z</dcterms:modified>
  <cp:revision>1</cp:revision>
  <dc:subject/>
  <dc:title>Slide 1</dc:title>
</cp:coreProperties>
</file>