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869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08A-B22C-4458-8AAA-77D45598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01640"/>
            <a:ext cx="68580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69360"/>
            <a:ext cx="68580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3EC-CB45-461E-A149-8A7242BA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0164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0164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6936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96936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E82-F1C3-4C1B-850D-CB1C3194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01640"/>
            <a:ext cx="22078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01640"/>
            <a:ext cx="22078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01640"/>
            <a:ext cx="22078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69360"/>
            <a:ext cx="22078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969360"/>
            <a:ext cx="22078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969360"/>
            <a:ext cx="22078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671-D589-4AB8-BF5E-EA014E2A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01640"/>
            <a:ext cx="68580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B3F-DE59-422C-B963-F620A212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01640"/>
            <a:ext cx="6858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726-F9BA-4354-9D37-BCC66271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01640"/>
            <a:ext cx="334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01640"/>
            <a:ext cx="334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06E-5EDE-49D9-BA9D-BCC852B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CA6-05A3-49AA-8990-45B3F029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68580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4CD-95E5-4D39-B1C2-31C6DD0D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0164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01640"/>
            <a:ext cx="334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6936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C74-C82A-4103-B82F-BFA3E109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01640"/>
            <a:ext cx="33465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0164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96936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01E-5D32-4CBC-BFD7-6310978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0164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01640"/>
            <a:ext cx="33465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69360"/>
            <a:ext cx="68580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783-E78B-4191-A927-9A89F3CD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01640"/>
            <a:ext cx="6858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52840"/>
            <a:ext cx="17780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252840"/>
            <a:ext cx="24130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252840"/>
            <a:ext cx="17780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4A8B-F4B7-427F-8B6C-732BD27A0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6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b0082"/>
                </a:solidFill>
                <a:latin typeface="Trebuchet MS"/>
              </a:rPr>
              <a:t>L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58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Alg - quadr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9840" y="422280"/>
            <a:ext cx="4727520" cy="2008080"/>
            <a:chOff x="69840" y="422280"/>
            <a:chExt cx="4727520" cy="2008080"/>
          </a:xfrm>
        </p:grpSpPr>
        <p:grpSp>
          <p:nvGrpSpPr>
            <p:cNvPr id="45" name=""/>
            <p:cNvGrpSpPr/>
            <p:nvPr/>
          </p:nvGrpSpPr>
          <p:grpSpPr>
            <a:xfrm>
              <a:off x="574560" y="765000"/>
              <a:ext cx="4222800" cy="1020960"/>
              <a:chOff x="574560" y="765000"/>
              <a:chExt cx="4222800" cy="1020960"/>
            </a:xfrm>
          </p:grpSpPr>
          <p:sp>
            <p:nvSpPr>
              <p:cNvPr id="46" name=""/>
              <p:cNvSpPr/>
              <p:nvPr/>
            </p:nvSpPr>
            <p:spPr>
              <a:xfrm>
                <a:off x="631800" y="774720"/>
                <a:ext cx="416556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rebuchet MS"/>
                  </a:rPr>
                  <a:t>When I subtract 25 from my number, then square the answer,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rebuchet MS"/>
                  </a:rPr>
                  <a:t>I get the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rebuchet MS"/>
                  </a:rPr>
                  <a:t>same result 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rebuchet MS"/>
                  </a:rPr>
                  <a:t>when I square my number, then subtract 25 from the answe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74560" y="765000"/>
                <a:ext cx="4200480" cy="1020960"/>
              </a:xfrm>
              <a:custGeom>
                <a:avLst/>
                <a:gdLst/>
                <a:ahLst/>
                <a:rect l="l" t="t" r="r" b="b"/>
                <a:pathLst>
                  <a:path w="2646" h="643">
                    <a:moveTo>
                      <a:pt x="0" y="0"/>
                    </a:moveTo>
                    <a:lnTo>
                      <a:pt x="2645" y="0"/>
                    </a:lnTo>
                    <a:lnTo>
                      <a:pt x="2645" y="642"/>
                    </a:lnTo>
                    <a:lnTo>
                      <a:pt x="0" y="64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69840" y="1879560"/>
              <a:ext cx="252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What is my numb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You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must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show an algebraic metho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840" y="422280"/>
              <a:ext cx="189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I am thinking of a numbe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108320" y="0"/>
            <a:ext cx="340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800080"/>
                </a:solidFill>
                <a:uFillTx/>
                <a:latin typeface="Trebuchet MS"/>
              </a:rPr>
              <a:t>Subtracting &amp; squ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5160" y="2698920"/>
            <a:ext cx="54039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hat happens if you subtract a different numbe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Ans: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(x - a)</a:t>
            </a:r>
            <a:r>
              <a:rPr b="0" lang="en-GB" sz="1700" spc="-1" strike="noStrike" baseline="30000">
                <a:solidFill>
                  <a:srgbClr val="800080"/>
                </a:solidFill>
                <a:latin typeface="Trebuchet MS"/>
              </a:rPr>
              <a:t>2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= x</a:t>
            </a:r>
            <a:r>
              <a:rPr b="0" lang="en-GB" sz="1700" spc="-1" strike="noStrike" baseline="30000">
                <a:solidFill>
                  <a:srgbClr val="800080"/>
                </a:solidFill>
                <a:latin typeface="Trebuchet MS"/>
              </a:rPr>
              <a:t>2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-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700" spc="-1" strike="noStrike" baseline="30000">
                <a:solidFill>
                  <a:srgbClr val="800080"/>
                </a:solidFill>
                <a:latin typeface="Trebuchet MS"/>
              </a:rPr>
              <a:t>2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- 2ax + a</a:t>
            </a:r>
            <a:r>
              <a:rPr b="0" lang="en-GB" sz="1700" spc="-1" strike="noStrike" baseline="30000">
                <a:solidFill>
                  <a:srgbClr val="800080"/>
                </a:solidFill>
                <a:latin typeface="Trebuchet MS"/>
              </a:rPr>
              <a:t>2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= x</a:t>
            </a:r>
            <a:r>
              <a:rPr b="0" lang="en-GB" sz="1700" spc="-1" strike="noStrike" baseline="30000">
                <a:solidFill>
                  <a:srgbClr val="800080"/>
                </a:solidFill>
                <a:latin typeface="Trebuchet MS"/>
              </a:rPr>
              <a:t>2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-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  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a</a:t>
            </a:r>
            <a:r>
              <a:rPr b="0" lang="en-GB" sz="1700" spc="-1" strike="noStrike" baseline="30000">
                <a:solidFill>
                  <a:srgbClr val="800080"/>
                </a:solidFill>
                <a:latin typeface="Trebuchet MS"/>
              </a:rPr>
              <a:t>2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+ a = 2a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  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x = ½(a + 1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9520" y="0"/>
            <a:ext cx="368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800080"/>
                </a:solidFill>
                <a:uFillTx/>
                <a:latin typeface="Trebuchet MS"/>
              </a:rPr>
              <a:t>Subtracting and squ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1840" y="676440"/>
            <a:ext cx="4370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I am thinking of a numb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9880" y="3938760"/>
            <a:ext cx="4514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What is my number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You 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must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 show an algebraic metho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23760" y="1297080"/>
            <a:ext cx="5973840" cy="2423520"/>
            <a:chOff x="923760" y="1297080"/>
            <a:chExt cx="5973840" cy="2423520"/>
          </a:xfrm>
        </p:grpSpPr>
        <p:sp>
          <p:nvSpPr>
            <p:cNvPr id="56" name=""/>
            <p:cNvSpPr/>
            <p:nvPr/>
          </p:nvSpPr>
          <p:spPr>
            <a:xfrm>
              <a:off x="1031760" y="1364040"/>
              <a:ext cx="5861160" cy="21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When I subtract 25 from my number, then square the answer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I get the </a:t>
              </a:r>
              <a:r>
                <a:rPr b="1" lang="en-US" sz="1900" spc="-1" strike="noStrike">
                  <a:solidFill>
                    <a:srgbClr val="000000"/>
                  </a:solidFill>
                  <a:latin typeface="Trebuchet MS"/>
                </a:rPr>
                <a:t>same result 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when I square my number, then subtract 25 from the answer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23760" y="1297080"/>
              <a:ext cx="5973840" cy="2423520"/>
            </a:xfrm>
            <a:custGeom>
              <a:avLst/>
              <a:gdLst/>
              <a:ahLst/>
              <a:rect l="l" t="t" r="r" b="b"/>
              <a:pathLst>
                <a:path w="3763" h="943">
                  <a:moveTo>
                    <a:pt x="0" y="0"/>
                  </a:moveTo>
                  <a:lnTo>
                    <a:pt x="3762" y="0"/>
                  </a:lnTo>
                  <a:lnTo>
                    <a:pt x="3762" y="942"/>
                  </a:lnTo>
                  <a:lnTo>
                    <a:pt x="0" y="9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30:14Z</dcterms:created>
  <dc:creator>MDawes</dc:creator>
  <dc:description/>
  <dc:language>en-US</dc:language>
  <cp:lastModifiedBy>MDawes</cp:lastModifiedBy>
  <dcterms:modified xsi:type="dcterms:W3CDTF">2009-10-06T06:53:00Z</dcterms:modified>
  <cp:revision>2</cp:revision>
  <dc:subject/>
  <dc:title>Slide 1</dc:title>
</cp:coreProperties>
</file>