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0D7-9AD4-4BD6-BF9F-3ECB61EC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498-48D2-4DCA-BE72-046B78E0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1D0-8B00-427D-8CD4-70237EA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1CC-5144-4673-958C-501A40BA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7E4-03D5-452F-ADB1-8AC99B6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DEA-ED93-461B-9278-CB077722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974-4BB4-43AB-9F45-8F92F0B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D6C-25AA-423B-A0F3-05506E23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40B-9C61-4908-AB70-21DB9884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852-BF4F-4E55-A685-80C92E3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637-0346-4E25-BC81-8155C0B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D1A-FC25-478C-9EB2-4E309DCE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E60-EA7F-40A2-B658-4735F17CA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9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expre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4000" y="19461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rite another way, and another, and anoth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[NB the second number can be negative!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0000" y="0"/>
            <a:ext cx="26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mplet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6160" y="479520"/>
            <a:ext cx="3498840" cy="2543760"/>
            <a:chOff x="146160" y="479520"/>
            <a:chExt cx="3498840" cy="2543760"/>
          </a:xfrm>
        </p:grpSpPr>
        <p:sp>
          <p:nvSpPr>
            <p:cNvPr id="47" name=""/>
            <p:cNvSpPr/>
            <p:nvPr/>
          </p:nvSpPr>
          <p:spPr>
            <a:xfrm>
              <a:off x="2631960" y="1603440"/>
              <a:ext cx="37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46160" y="479520"/>
              <a:ext cx="3498840" cy="2543760"/>
              <a:chOff x="146160" y="479520"/>
              <a:chExt cx="3498840" cy="2543760"/>
            </a:xfrm>
          </p:grpSpPr>
          <p:sp>
            <p:nvSpPr>
              <p:cNvPr id="49" name=""/>
              <p:cNvSpPr/>
              <p:nvPr/>
            </p:nvSpPr>
            <p:spPr>
              <a:xfrm>
                <a:off x="155520" y="2517840"/>
                <a:ext cx="3098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(a)  To get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,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multipl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by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and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add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his can be written as 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= 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46200" y="1612800"/>
                <a:ext cx="374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74640" y="1870200"/>
                <a:ext cx="717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i="1" lang="en-GB" sz="12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 +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5240" y="1689120"/>
                <a:ext cx="307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o get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,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multipl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by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and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add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his can be written as 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= 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________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5240" y="1184400"/>
                <a:ext cx="3479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Complete the rules below to show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different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ways to get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using </a:t>
                </a:r>
                <a:r>
                  <a:rPr b="0" i="1" lang="en-GB" sz="9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he first one is done for you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235160" y="741240"/>
                <a:ext cx="1744560" cy="473400"/>
                <a:chOff x="1235160" y="741240"/>
                <a:chExt cx="1744560" cy="4734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327320" y="755640"/>
                  <a:ext cx="16509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x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 = 4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i="1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y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rebuchet MS"/>
                    </a:rPr>
                    <a:t> = 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35160" y="741240"/>
                  <a:ext cx="1744560" cy="378000"/>
                </a:xfrm>
                <a:custGeom>
                  <a:avLst/>
                  <a:gdLst/>
                  <a:ahLst/>
                  <a:rect l="l" t="t" r="r" b="b"/>
                  <a:pathLst>
                    <a:path w="1099" h="238">
                      <a:moveTo>
                        <a:pt x="0" y="0"/>
                      </a:moveTo>
                      <a:lnTo>
                        <a:pt x="1098" y="0"/>
                      </a:lnTo>
                      <a:lnTo>
                        <a:pt x="1098" y="237"/>
                      </a:lnTo>
                      <a:lnTo>
                        <a:pt x="0" y="2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46160" y="47952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ake a look at the information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7240" y="313380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3241800"/>
            <a:ext cx="384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b)  To get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multipl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subtract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84280" y="3479760"/>
            <a:ext cx="53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rite another way, and another, and anoth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s the link between these answers and the answers to part (a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240" y="4556160"/>
            <a:ext cx="382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c)  To get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divide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add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0" y="456264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517536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rite another way, and another, and anoth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6160" y="365040"/>
            <a:ext cx="3098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ake a look at the inform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03520" y="0"/>
            <a:ext cx="26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mpleting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048040" y="790560"/>
            <a:ext cx="3125520" cy="687240"/>
            <a:chOff x="2048040" y="790560"/>
            <a:chExt cx="3125520" cy="687240"/>
          </a:xfrm>
        </p:grpSpPr>
        <p:sp>
          <p:nvSpPr>
            <p:cNvPr id="67" name=""/>
            <p:cNvSpPr/>
            <p:nvPr/>
          </p:nvSpPr>
          <p:spPr>
            <a:xfrm>
              <a:off x="2270160" y="860400"/>
              <a:ext cx="2870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4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1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8040" y="790560"/>
              <a:ext cx="3125520" cy="687240"/>
            </a:xfrm>
            <a:custGeom>
              <a:avLst/>
              <a:gdLst/>
              <a:ahLst/>
              <a:rect l="l" t="t" r="r" b="b"/>
              <a:pathLst>
                <a:path w="1969" h="433">
                  <a:moveTo>
                    <a:pt x="0" y="0"/>
                  </a:moveTo>
                  <a:lnTo>
                    <a:pt x="1968" y="0"/>
                  </a:lnTo>
                  <a:lnTo>
                    <a:pt x="1968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84320" y="1650960"/>
            <a:ext cx="614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omplete the rules below to show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different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ways to ge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using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first one is done for yo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4600" y="2565360"/>
            <a:ext cx="540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o ge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ultipl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dd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8280" y="2908440"/>
            <a:ext cx="117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+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0760" y="243216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6160" y="24130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5520" y="4089240"/>
            <a:ext cx="5765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To ge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ultipl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dd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0720" y="1136520"/>
            <a:ext cx="6204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To ge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ultipl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subtract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52480" y="104760"/>
            <a:ext cx="3125880" cy="687240"/>
            <a:chOff x="1752480" y="104760"/>
            <a:chExt cx="3125880" cy="687240"/>
          </a:xfrm>
        </p:grpSpPr>
        <p:sp>
          <p:nvSpPr>
            <p:cNvPr id="77" name=""/>
            <p:cNvSpPr/>
            <p:nvPr/>
          </p:nvSpPr>
          <p:spPr>
            <a:xfrm>
              <a:off x="1974960" y="174600"/>
              <a:ext cx="286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4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1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104760"/>
              <a:ext cx="3125880" cy="687240"/>
            </a:xfrm>
            <a:custGeom>
              <a:avLst/>
              <a:gdLst/>
              <a:ahLst/>
              <a:rect l="l" t="t" r="r" b="b"/>
              <a:pathLst>
                <a:path w="1969" h="433">
                  <a:moveTo>
                    <a:pt x="0" y="0"/>
                  </a:moveTo>
                  <a:lnTo>
                    <a:pt x="1968" y="0"/>
                  </a:lnTo>
                  <a:lnTo>
                    <a:pt x="1968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0720" y="1136520"/>
            <a:ext cx="5575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c)  To ge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divid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by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an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dd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is can be written as 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52480" y="104760"/>
            <a:ext cx="3125880" cy="687240"/>
            <a:chOff x="1752480" y="104760"/>
            <a:chExt cx="3125880" cy="687240"/>
          </a:xfrm>
        </p:grpSpPr>
        <p:sp>
          <p:nvSpPr>
            <p:cNvPr id="81" name=""/>
            <p:cNvSpPr/>
            <p:nvPr/>
          </p:nvSpPr>
          <p:spPr>
            <a:xfrm>
              <a:off x="1974960" y="174600"/>
              <a:ext cx="286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4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1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52480" y="104760"/>
              <a:ext cx="3125880" cy="687240"/>
            </a:xfrm>
            <a:custGeom>
              <a:avLst/>
              <a:gdLst/>
              <a:ahLst/>
              <a:rect l="l" t="t" r="r" b="b"/>
              <a:pathLst>
                <a:path w="1969" h="433">
                  <a:moveTo>
                    <a:pt x="0" y="0"/>
                  </a:moveTo>
                  <a:lnTo>
                    <a:pt x="1968" y="0"/>
                  </a:lnTo>
                  <a:lnTo>
                    <a:pt x="1968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2:18Z</dcterms:created>
  <dc:creator>MDawes</dc:creator>
  <dc:description/>
  <dc:language>en-US</dc:language>
  <cp:lastModifiedBy>MDawes</cp:lastModifiedBy>
  <dcterms:modified xsi:type="dcterms:W3CDTF">2007-07-04T11:42:19Z</dcterms:modified>
  <cp:revision>1</cp:revision>
  <dc:subject/>
  <dc:title>Slide 1</dc:title>
</cp:coreProperties>
</file>