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0E1-A664-4A46-A527-5EAB100C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05C-BB18-4710-B5BD-C05D3E8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EC7-9E05-47D8-BAA3-09234C53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DB6-C679-4732-AE69-2F861695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8B8-9637-4DA3-8AD0-DEE4BCA5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1B2-4D6A-4896-AC54-5508BAF1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939-A06B-4951-A8A2-3A855EFC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C6F-D679-4EFE-8CF9-C66D39A9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420-671D-4FD3-8DCD-9B97C317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59E-E00F-4BD0-AF9C-CB0573F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C01-6C2A-4866-8143-E46234DE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55B-48BD-4FF2-BE3E-534995E5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45D0-D592-406E-A11A-DC25E68176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6880" y="4842000"/>
            <a:ext cx="64137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Change the numbers of bags, marbles, the weigh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What if ... 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8 bags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What if ... 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x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ba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11 marbles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y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marb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6 grams  etc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z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gr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13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Algebraic expres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8000" y="469800"/>
            <a:ext cx="4860720" cy="4254480"/>
            <a:chOff x="108000" y="469800"/>
            <a:chExt cx="4860720" cy="4254480"/>
          </a:xfrm>
        </p:grpSpPr>
        <p:grpSp>
          <p:nvGrpSpPr>
            <p:cNvPr id="46" name=""/>
            <p:cNvGrpSpPr/>
            <p:nvPr/>
          </p:nvGrpSpPr>
          <p:grpSpPr>
            <a:xfrm>
              <a:off x="2778120" y="4422600"/>
              <a:ext cx="1025640" cy="301680"/>
              <a:chOff x="2778120" y="4422600"/>
              <a:chExt cx="1025640" cy="301680"/>
            </a:xfrm>
          </p:grpSpPr>
          <p:sp>
            <p:nvSpPr>
              <p:cNvPr id="47" name=""/>
              <p:cNvSpPr/>
              <p:nvPr/>
            </p:nvSpPr>
            <p:spPr>
              <a:xfrm>
                <a:off x="2793960" y="4422600"/>
                <a:ext cx="98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10 + 12 + 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78120" y="4467240"/>
                <a:ext cx="1025640" cy="257040"/>
              </a:xfrm>
              <a:custGeom>
                <a:avLst/>
                <a:gdLst/>
                <a:ahLst/>
                <a:rect l="l" t="t" r="r" b="b"/>
                <a:pathLst>
                  <a:path w="646" h="162">
                    <a:moveTo>
                      <a:pt x="0" y="0"/>
                    </a:moveTo>
                    <a:lnTo>
                      <a:pt x="645" y="0"/>
                    </a:lnTo>
                    <a:lnTo>
                      <a:pt x="645" y="161"/>
                    </a:lnTo>
                    <a:lnTo>
                      <a:pt x="0" y="16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786040" y="4032360"/>
              <a:ext cx="1025640" cy="303120"/>
              <a:chOff x="2786040" y="4032360"/>
              <a:chExt cx="1025640" cy="303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03680" y="4032360"/>
                <a:ext cx="98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10 x 12 x 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786040" y="4079880"/>
                <a:ext cx="1025640" cy="255600"/>
              </a:xfrm>
              <a:custGeom>
                <a:avLst/>
                <a:gdLst/>
                <a:ahLst/>
                <a:rect l="l" t="t" r="r" b="b"/>
                <a:pathLst>
                  <a:path w="646" h="16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792520" y="3156120"/>
              <a:ext cx="1025280" cy="295200"/>
              <a:chOff x="2792520" y="3156120"/>
              <a:chExt cx="1025280" cy="295200"/>
            </a:xfrm>
          </p:grpSpPr>
          <p:sp>
            <p:nvSpPr>
              <p:cNvPr id="53" name=""/>
              <p:cNvSpPr/>
              <p:nvPr/>
            </p:nvSpPr>
            <p:spPr>
              <a:xfrm>
                <a:off x="2813040" y="3156120"/>
                <a:ext cx="98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10 x 1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792520" y="3195720"/>
                <a:ext cx="1025280" cy="255600"/>
              </a:xfrm>
              <a:custGeom>
                <a:avLst/>
                <a:gdLst/>
                <a:ahLst/>
                <a:rect l="l" t="t" r="r" b="b"/>
                <a:pathLst>
                  <a:path w="646" h="16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786040" y="3603600"/>
              <a:ext cx="1025640" cy="303120"/>
              <a:chOff x="2786040" y="3603600"/>
              <a:chExt cx="1025640" cy="303120"/>
            </a:xfrm>
          </p:grpSpPr>
          <p:sp>
            <p:nvSpPr>
              <p:cNvPr id="56" name=""/>
              <p:cNvSpPr/>
              <p:nvPr/>
            </p:nvSpPr>
            <p:spPr>
              <a:xfrm>
                <a:off x="2803680" y="3603600"/>
                <a:ext cx="98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12 x 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86040" y="3651120"/>
                <a:ext cx="1025640" cy="255600"/>
              </a:xfrm>
              <a:custGeom>
                <a:avLst/>
                <a:gdLst/>
                <a:ahLst/>
                <a:rect l="l" t="t" r="r" b="b"/>
                <a:pathLst>
                  <a:path w="646" h="16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798640" y="2708280"/>
              <a:ext cx="1025640" cy="301680"/>
              <a:chOff x="2798640" y="2708280"/>
              <a:chExt cx="1025640" cy="301680"/>
            </a:xfrm>
          </p:grpSpPr>
          <p:sp>
            <p:nvSpPr>
              <p:cNvPr id="59" name=""/>
              <p:cNvSpPr/>
              <p:nvPr/>
            </p:nvSpPr>
            <p:spPr>
              <a:xfrm>
                <a:off x="2813040" y="2708280"/>
                <a:ext cx="98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10 x 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798640" y="2754360"/>
                <a:ext cx="1025640" cy="255600"/>
              </a:xfrm>
              <a:custGeom>
                <a:avLst/>
                <a:gdLst/>
                <a:ahLst/>
                <a:rect l="l" t="t" r="r" b="b"/>
                <a:pathLst>
                  <a:path w="646" h="16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798640" y="2251080"/>
              <a:ext cx="1025640" cy="297000"/>
              <a:chOff x="2798640" y="2251080"/>
              <a:chExt cx="1025640" cy="297000"/>
            </a:xfrm>
          </p:grpSpPr>
          <p:sp>
            <p:nvSpPr>
              <p:cNvPr id="62" name=""/>
              <p:cNvSpPr/>
              <p:nvPr/>
            </p:nvSpPr>
            <p:spPr>
              <a:xfrm>
                <a:off x="2813040" y="2251080"/>
                <a:ext cx="98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98640" y="2292480"/>
                <a:ext cx="1025640" cy="255600"/>
              </a:xfrm>
              <a:custGeom>
                <a:avLst/>
                <a:gdLst/>
                <a:ahLst/>
                <a:rect l="l" t="t" r="r" b="b"/>
                <a:pathLst>
                  <a:path w="646" h="16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16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250920" y="3498840"/>
              <a:ext cx="1879560" cy="528480"/>
              <a:chOff x="250920" y="3498840"/>
              <a:chExt cx="1879560" cy="528480"/>
            </a:xfrm>
          </p:grpSpPr>
          <p:sp>
            <p:nvSpPr>
              <p:cNvPr id="65" name=""/>
              <p:cNvSpPr/>
              <p:nvPr/>
            </p:nvSpPr>
            <p:spPr>
              <a:xfrm>
                <a:off x="250920" y="3498840"/>
                <a:ext cx="1879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How much does 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Trebuchet MS"/>
                  </a:rPr>
                  <a:t>each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 bag of marbles weigh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5840" y="3524400"/>
                <a:ext cx="1778040" cy="502920"/>
              </a:xfrm>
              <a:custGeom>
                <a:avLst/>
                <a:gdLst/>
                <a:ahLst/>
                <a:rect l="l" t="t" r="r" b="b"/>
                <a:pathLst>
                  <a:path w="1120" h="317">
                    <a:moveTo>
                      <a:pt x="0" y="0"/>
                    </a:moveTo>
                    <a:lnTo>
                      <a:pt x="1119" y="0"/>
                    </a:lnTo>
                    <a:lnTo>
                      <a:pt x="1119" y="316"/>
                    </a:lnTo>
                    <a:lnTo>
                      <a:pt x="0" y="31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60280" y="4146480"/>
              <a:ext cx="1860480" cy="523800"/>
              <a:chOff x="260280" y="4146480"/>
              <a:chExt cx="1860480" cy="523800"/>
            </a:xfrm>
          </p:grpSpPr>
          <p:sp>
            <p:nvSpPr>
              <p:cNvPr id="68" name=""/>
              <p:cNvSpPr/>
              <p:nvPr/>
            </p:nvSpPr>
            <p:spPr>
              <a:xfrm>
                <a:off x="260280" y="4146480"/>
                <a:ext cx="18604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How much do 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Trebuchet MS"/>
                  </a:rPr>
                  <a:t>all 10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 bags of marbles weigh altogether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91960" y="4165560"/>
                <a:ext cx="1778040" cy="504720"/>
              </a:xfrm>
              <a:custGeom>
                <a:avLst/>
                <a:gdLst/>
                <a:ahLst/>
                <a:rect l="l" t="t" r="r" b="b"/>
                <a:pathLst>
                  <a:path w="1120" h="318">
                    <a:moveTo>
                      <a:pt x="0" y="0"/>
                    </a:moveTo>
                    <a:lnTo>
                      <a:pt x="1119" y="0"/>
                    </a:lnTo>
                    <a:lnTo>
                      <a:pt x="1119" y="317"/>
                    </a:lnTo>
                    <a:lnTo>
                      <a:pt x="0" y="31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285840" y="2870280"/>
              <a:ext cx="1778040" cy="527040"/>
              <a:chOff x="285840" y="2870280"/>
              <a:chExt cx="1778040" cy="527040"/>
            </a:xfrm>
          </p:grpSpPr>
          <p:sp>
            <p:nvSpPr>
              <p:cNvPr id="71" name=""/>
              <p:cNvSpPr/>
              <p:nvPr/>
            </p:nvSpPr>
            <p:spPr>
              <a:xfrm>
                <a:off x="431640" y="2870280"/>
                <a:ext cx="14986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How many 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Trebuchet MS"/>
                  </a:rPr>
                  <a:t>marbles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 are there altogether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5840" y="2894040"/>
                <a:ext cx="1778040" cy="503280"/>
              </a:xfrm>
              <a:custGeom>
                <a:avLst/>
                <a:gdLst/>
                <a:ahLst/>
                <a:rect l="l" t="t" r="r" b="b"/>
                <a:pathLst>
                  <a:path w="1120" h="317">
                    <a:moveTo>
                      <a:pt x="0" y="0"/>
                    </a:moveTo>
                    <a:lnTo>
                      <a:pt x="1119" y="0"/>
                    </a:lnTo>
                    <a:lnTo>
                      <a:pt x="1119" y="316"/>
                    </a:lnTo>
                    <a:lnTo>
                      <a:pt x="0" y="31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279360" y="2251080"/>
              <a:ext cx="1776600" cy="530280"/>
              <a:chOff x="279360" y="2251080"/>
              <a:chExt cx="1776600" cy="530280"/>
            </a:xfrm>
          </p:grpSpPr>
          <p:sp>
            <p:nvSpPr>
              <p:cNvPr id="74" name=""/>
              <p:cNvSpPr/>
              <p:nvPr/>
            </p:nvSpPr>
            <p:spPr>
              <a:xfrm>
                <a:off x="422280" y="2251080"/>
                <a:ext cx="14986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How many 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Trebuchet MS"/>
                  </a:rPr>
                  <a:t>bags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 ar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there altogether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79360" y="2278080"/>
                <a:ext cx="1776600" cy="503280"/>
              </a:xfrm>
              <a:custGeom>
                <a:avLst/>
                <a:gdLst/>
                <a:ahLst/>
                <a:rect l="l" t="t" r="r" b="b"/>
                <a:pathLst>
                  <a:path w="1119" h="317">
                    <a:moveTo>
                      <a:pt x="0" y="0"/>
                    </a:moveTo>
                    <a:lnTo>
                      <a:pt x="1118" y="0"/>
                    </a:lnTo>
                    <a:lnTo>
                      <a:pt x="1118" y="316"/>
                    </a:lnTo>
                    <a:lnTo>
                      <a:pt x="0" y="31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1492200" y="765000"/>
              <a:ext cx="2219400" cy="1100160"/>
              <a:chOff x="1492200" y="765000"/>
              <a:chExt cx="2219400" cy="1100160"/>
            </a:xfrm>
          </p:grpSpPr>
          <p:sp>
            <p:nvSpPr>
              <p:cNvPr id="77" name=""/>
              <p:cNvSpPr/>
              <p:nvPr/>
            </p:nvSpPr>
            <p:spPr>
              <a:xfrm>
                <a:off x="1565280" y="765000"/>
                <a:ext cx="2146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Altogether there are 10 bag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Each bag contains 12 marbl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Each marble weighs 7 gram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92200" y="771480"/>
                <a:ext cx="2219400" cy="1093680"/>
              </a:xfrm>
              <a:custGeom>
                <a:avLst/>
                <a:gdLst/>
                <a:ahLst/>
                <a:rect l="l" t="t" r="r" b="b"/>
                <a:pathLst>
                  <a:path w="1398" h="689">
                    <a:moveTo>
                      <a:pt x="0" y="0"/>
                    </a:moveTo>
                    <a:lnTo>
                      <a:pt x="1397" y="0"/>
                    </a:lnTo>
                    <a:lnTo>
                      <a:pt x="1397" y="688"/>
                    </a:lnTo>
                    <a:lnTo>
                      <a:pt x="0" y="6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17360" y="1936800"/>
              <a:ext cx="48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Use the information to match each question with the correct calc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8000" y="469800"/>
              <a:ext cx="32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Here is information about some bags of marble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5375160" y="0"/>
            <a:ext cx="146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Mar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1800" y="0"/>
            <a:ext cx="146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Mar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280" y="393840"/>
            <a:ext cx="462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ere is information about some bags of marbl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2470320"/>
            <a:ext cx="683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Use the information to match each question with the correct calcul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038320" y="790560"/>
            <a:ext cx="3154320" cy="1554120"/>
            <a:chOff x="2038320" y="790560"/>
            <a:chExt cx="3154320" cy="1554120"/>
          </a:xfrm>
        </p:grpSpPr>
        <p:sp>
          <p:nvSpPr>
            <p:cNvPr id="86" name=""/>
            <p:cNvSpPr/>
            <p:nvPr/>
          </p:nvSpPr>
          <p:spPr>
            <a:xfrm>
              <a:off x="2174760" y="812880"/>
              <a:ext cx="29847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Altogether there are 10 bag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Each bag contains 12 marbl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Each marble weighs 7 gram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8320" y="790560"/>
              <a:ext cx="3154320" cy="1554120"/>
            </a:xfrm>
            <a:custGeom>
              <a:avLst/>
              <a:gdLst/>
              <a:ahLst/>
              <a:rect l="l" t="t" r="r" b="b"/>
              <a:pathLst>
                <a:path w="1987" h="979">
                  <a:moveTo>
                    <a:pt x="0" y="0"/>
                  </a:moveTo>
                  <a:lnTo>
                    <a:pt x="1986" y="0"/>
                  </a:lnTo>
                  <a:lnTo>
                    <a:pt x="1986" y="978"/>
                  </a:lnTo>
                  <a:lnTo>
                    <a:pt x="0" y="97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14280" y="2927520"/>
            <a:ext cx="2525760" cy="722160"/>
            <a:chOff x="314280" y="2927520"/>
            <a:chExt cx="2525760" cy="722160"/>
          </a:xfrm>
        </p:grpSpPr>
        <p:sp>
          <p:nvSpPr>
            <p:cNvPr id="89" name=""/>
            <p:cNvSpPr/>
            <p:nvPr/>
          </p:nvSpPr>
          <p:spPr>
            <a:xfrm>
              <a:off x="546120" y="2927520"/>
              <a:ext cx="2070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How many </a:t>
              </a:r>
              <a:r>
                <a:rPr b="1" lang="en-GB" sz="1500" spc="-1" strike="noStrike">
                  <a:solidFill>
                    <a:srgbClr val="000000"/>
                  </a:solidFill>
                  <a:latin typeface="Trebuchet MS"/>
                </a:rPr>
                <a:t>bags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ar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there altogether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280" y="2933640"/>
              <a:ext cx="2525760" cy="716040"/>
            </a:xfrm>
            <a:custGeom>
              <a:avLst/>
              <a:gdLst/>
              <a:ahLst/>
              <a:rect l="l" t="t" r="r" b="b"/>
              <a:pathLst>
                <a:path w="1591" h="451">
                  <a:moveTo>
                    <a:pt x="0" y="0"/>
                  </a:moveTo>
                  <a:lnTo>
                    <a:pt x="1590" y="0"/>
                  </a:lnTo>
                  <a:lnTo>
                    <a:pt x="1590" y="450"/>
                  </a:lnTo>
                  <a:lnTo>
                    <a:pt x="0" y="45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24000" y="3803760"/>
            <a:ext cx="2525400" cy="778680"/>
            <a:chOff x="324000" y="3803760"/>
            <a:chExt cx="2525400" cy="778680"/>
          </a:xfrm>
        </p:grpSpPr>
        <p:sp>
          <p:nvSpPr>
            <p:cNvPr id="92" name=""/>
            <p:cNvSpPr/>
            <p:nvPr/>
          </p:nvSpPr>
          <p:spPr>
            <a:xfrm>
              <a:off x="555480" y="3803760"/>
              <a:ext cx="20703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How many </a:t>
              </a:r>
              <a:r>
                <a:rPr b="1" lang="en-GB" sz="1500" spc="-1" strike="noStrike">
                  <a:solidFill>
                    <a:srgbClr val="000000"/>
                  </a:solidFill>
                  <a:latin typeface="Trebuchet MS"/>
                </a:rPr>
                <a:t>marbles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are there altogether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3809880"/>
              <a:ext cx="2525400" cy="716040"/>
            </a:xfrm>
            <a:custGeom>
              <a:avLst/>
              <a:gdLst/>
              <a:ahLst/>
              <a:rect l="l" t="t" r="r" b="b"/>
              <a:pathLst>
                <a:path w="1591" h="451">
                  <a:moveTo>
                    <a:pt x="0" y="0"/>
                  </a:moveTo>
                  <a:lnTo>
                    <a:pt x="1590" y="0"/>
                  </a:lnTo>
                  <a:lnTo>
                    <a:pt x="1590" y="450"/>
                  </a:lnTo>
                  <a:lnTo>
                    <a:pt x="0" y="45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17520" y="5613480"/>
            <a:ext cx="2603520" cy="778680"/>
            <a:chOff x="317520" y="5613480"/>
            <a:chExt cx="2603520" cy="778680"/>
          </a:xfrm>
        </p:grpSpPr>
        <p:sp>
          <p:nvSpPr>
            <p:cNvPr id="95" name=""/>
            <p:cNvSpPr/>
            <p:nvPr/>
          </p:nvSpPr>
          <p:spPr>
            <a:xfrm>
              <a:off x="317520" y="5613480"/>
              <a:ext cx="260352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How much do </a:t>
              </a:r>
              <a:r>
                <a:rPr b="1" lang="en-GB" sz="1500" spc="-1" strike="noStrike">
                  <a:solidFill>
                    <a:srgbClr val="000000"/>
                  </a:solidFill>
                  <a:latin typeface="Trebuchet MS"/>
                </a:rPr>
                <a:t>all 10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bags of marbles weigh altogether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3360" y="5619600"/>
              <a:ext cx="2525760" cy="716040"/>
            </a:xfrm>
            <a:custGeom>
              <a:avLst/>
              <a:gdLst/>
              <a:ahLst/>
              <a:rect l="l" t="t" r="r" b="b"/>
              <a:pathLst>
                <a:path w="1591" h="451">
                  <a:moveTo>
                    <a:pt x="0" y="0"/>
                  </a:moveTo>
                  <a:lnTo>
                    <a:pt x="1590" y="0"/>
                  </a:lnTo>
                  <a:lnTo>
                    <a:pt x="1590" y="450"/>
                  </a:lnTo>
                  <a:lnTo>
                    <a:pt x="0" y="45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07800" y="4699080"/>
            <a:ext cx="2622600" cy="722160"/>
            <a:chOff x="307800" y="4699080"/>
            <a:chExt cx="2622600" cy="722160"/>
          </a:xfrm>
        </p:grpSpPr>
        <p:sp>
          <p:nvSpPr>
            <p:cNvPr id="98" name=""/>
            <p:cNvSpPr/>
            <p:nvPr/>
          </p:nvSpPr>
          <p:spPr>
            <a:xfrm>
              <a:off x="307800" y="4699080"/>
              <a:ext cx="26226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How much does </a:t>
              </a:r>
              <a:r>
                <a:rPr b="1" lang="en-GB" sz="1500" spc="-1" strike="noStrike">
                  <a:solidFill>
                    <a:srgbClr val="000000"/>
                  </a:solidFill>
                  <a:latin typeface="Trebuchet MS"/>
                </a:rPr>
                <a:t>each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bag of marbles weigh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4000" y="4705200"/>
              <a:ext cx="2525400" cy="716040"/>
            </a:xfrm>
            <a:custGeom>
              <a:avLst/>
              <a:gdLst/>
              <a:ahLst/>
              <a:rect l="l" t="t" r="r" b="b"/>
              <a:pathLst>
                <a:path w="1591" h="451">
                  <a:moveTo>
                    <a:pt x="0" y="0"/>
                  </a:moveTo>
                  <a:lnTo>
                    <a:pt x="1590" y="0"/>
                  </a:lnTo>
                  <a:lnTo>
                    <a:pt x="1590" y="450"/>
                  </a:lnTo>
                  <a:lnTo>
                    <a:pt x="0" y="45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895560" y="2917800"/>
            <a:ext cx="1457640" cy="398520"/>
            <a:chOff x="3895560" y="2917800"/>
            <a:chExt cx="1457640" cy="398520"/>
          </a:xfrm>
        </p:grpSpPr>
        <p:sp>
          <p:nvSpPr>
            <p:cNvPr id="101" name=""/>
            <p:cNvSpPr/>
            <p:nvPr/>
          </p:nvSpPr>
          <p:spPr>
            <a:xfrm>
              <a:off x="3946680" y="2917800"/>
              <a:ext cx="1346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2952720"/>
              <a:ext cx="1457640" cy="363600"/>
            </a:xfrm>
            <a:custGeom>
              <a:avLst/>
              <a:gdLst/>
              <a:ahLst/>
              <a:rect l="l" t="t" r="r" b="b"/>
              <a:pathLst>
                <a:path w="918" h="229">
                  <a:moveTo>
                    <a:pt x="0" y="0"/>
                  </a:moveTo>
                  <a:lnTo>
                    <a:pt x="917" y="0"/>
                  </a:lnTo>
                  <a:lnTo>
                    <a:pt x="917" y="228"/>
                  </a:ln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895560" y="3575160"/>
            <a:ext cx="1457640" cy="398520"/>
            <a:chOff x="3895560" y="3575160"/>
            <a:chExt cx="1457640" cy="398520"/>
          </a:xfrm>
        </p:grpSpPr>
        <p:sp>
          <p:nvSpPr>
            <p:cNvPr id="104" name=""/>
            <p:cNvSpPr/>
            <p:nvPr/>
          </p:nvSpPr>
          <p:spPr>
            <a:xfrm>
              <a:off x="3946680" y="3575160"/>
              <a:ext cx="1346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10 x 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95560" y="3610080"/>
              <a:ext cx="1457640" cy="363600"/>
            </a:xfrm>
            <a:custGeom>
              <a:avLst/>
              <a:gdLst/>
              <a:ahLst/>
              <a:rect l="l" t="t" r="r" b="b"/>
              <a:pathLst>
                <a:path w="918" h="229">
                  <a:moveTo>
                    <a:pt x="0" y="0"/>
                  </a:moveTo>
                  <a:lnTo>
                    <a:pt x="917" y="0"/>
                  </a:lnTo>
                  <a:lnTo>
                    <a:pt x="917" y="228"/>
                  </a:ln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876840" y="4851360"/>
            <a:ext cx="1457280" cy="398520"/>
            <a:chOff x="3876840" y="4851360"/>
            <a:chExt cx="1457280" cy="398520"/>
          </a:xfrm>
        </p:grpSpPr>
        <p:sp>
          <p:nvSpPr>
            <p:cNvPr id="107" name=""/>
            <p:cNvSpPr/>
            <p:nvPr/>
          </p:nvSpPr>
          <p:spPr>
            <a:xfrm>
              <a:off x="3927600" y="4851360"/>
              <a:ext cx="1346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12 x 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76840" y="4886280"/>
              <a:ext cx="1457280" cy="363600"/>
            </a:xfrm>
            <a:custGeom>
              <a:avLst/>
              <a:gdLst/>
              <a:ahLst/>
              <a:rect l="l" t="t" r="r" b="b"/>
              <a:pathLst>
                <a:path w="918" h="229">
                  <a:moveTo>
                    <a:pt x="0" y="0"/>
                  </a:moveTo>
                  <a:lnTo>
                    <a:pt x="917" y="0"/>
                  </a:lnTo>
                  <a:lnTo>
                    <a:pt x="917" y="228"/>
                  </a:ln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86200" y="4203720"/>
            <a:ext cx="1457280" cy="398520"/>
            <a:chOff x="3886200" y="4203720"/>
            <a:chExt cx="1457280" cy="398520"/>
          </a:xfrm>
        </p:grpSpPr>
        <p:sp>
          <p:nvSpPr>
            <p:cNvPr id="110" name=""/>
            <p:cNvSpPr/>
            <p:nvPr/>
          </p:nvSpPr>
          <p:spPr>
            <a:xfrm>
              <a:off x="3936960" y="4203720"/>
              <a:ext cx="1346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10 x 1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4238640"/>
              <a:ext cx="1457280" cy="363600"/>
            </a:xfrm>
            <a:custGeom>
              <a:avLst/>
              <a:gdLst/>
              <a:ahLst/>
              <a:rect l="l" t="t" r="r" b="b"/>
              <a:pathLst>
                <a:path w="918" h="229">
                  <a:moveTo>
                    <a:pt x="0" y="0"/>
                  </a:moveTo>
                  <a:lnTo>
                    <a:pt x="917" y="0"/>
                  </a:lnTo>
                  <a:lnTo>
                    <a:pt x="917" y="228"/>
                  </a:ln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76840" y="5460840"/>
            <a:ext cx="1457280" cy="398520"/>
            <a:chOff x="3876840" y="5460840"/>
            <a:chExt cx="1457280" cy="398520"/>
          </a:xfrm>
        </p:grpSpPr>
        <p:sp>
          <p:nvSpPr>
            <p:cNvPr id="113" name=""/>
            <p:cNvSpPr/>
            <p:nvPr/>
          </p:nvSpPr>
          <p:spPr>
            <a:xfrm>
              <a:off x="3927600" y="5460840"/>
              <a:ext cx="1346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10 x 12 x 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76840" y="5495760"/>
              <a:ext cx="1457280" cy="363600"/>
            </a:xfrm>
            <a:custGeom>
              <a:avLst/>
              <a:gdLst/>
              <a:ahLst/>
              <a:rect l="l" t="t" r="r" b="b"/>
              <a:pathLst>
                <a:path w="918" h="229">
                  <a:moveTo>
                    <a:pt x="0" y="0"/>
                  </a:moveTo>
                  <a:lnTo>
                    <a:pt x="917" y="0"/>
                  </a:lnTo>
                  <a:lnTo>
                    <a:pt x="917" y="228"/>
                  </a:ln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867120" y="6013440"/>
            <a:ext cx="1457280" cy="398520"/>
            <a:chOff x="3867120" y="6013440"/>
            <a:chExt cx="1457280" cy="398520"/>
          </a:xfrm>
        </p:grpSpPr>
        <p:sp>
          <p:nvSpPr>
            <p:cNvPr id="116" name=""/>
            <p:cNvSpPr/>
            <p:nvPr/>
          </p:nvSpPr>
          <p:spPr>
            <a:xfrm>
              <a:off x="3917880" y="6013440"/>
              <a:ext cx="1346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10 + 12 + 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67120" y="6048360"/>
              <a:ext cx="1457280" cy="363600"/>
            </a:xfrm>
            <a:custGeom>
              <a:avLst/>
              <a:gdLst/>
              <a:ahLst/>
              <a:rect l="l" t="t" r="r" b="b"/>
              <a:pathLst>
                <a:path w="918" h="229">
                  <a:moveTo>
                    <a:pt x="0" y="0"/>
                  </a:moveTo>
                  <a:lnTo>
                    <a:pt x="917" y="0"/>
                  </a:lnTo>
                  <a:lnTo>
                    <a:pt x="917" y="228"/>
                  </a:ln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8:02Z</dcterms:created>
  <dc:creator>MDawes</dc:creator>
  <dc:description/>
  <dc:language>en-US</dc:language>
  <cp:lastModifiedBy>MDawes</cp:lastModifiedBy>
  <dcterms:modified xsi:type="dcterms:W3CDTF">2007-07-04T11:38:03Z</dcterms:modified>
  <cp:revision>1</cp:revision>
  <dc:subject/>
  <dc:title>Slide 1</dc:title>
</cp:coreProperties>
</file>