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BFA-C097-4FBE-8367-62A0360F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A30-B2D7-4933-80E9-30F25F89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3D5-2DE0-4AD5-8805-6C3FCCD9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E3A-633A-46F1-AC99-C8D135C7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810-57E2-4BBC-979C-660A49E6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A84-955A-47DB-9233-165CFAF7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0D4-C7BA-4BDD-A114-683FC5BD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4B2-323A-445E-8E17-65E2DA66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C91-D4E2-405A-88AA-92D02C23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36D-EDF7-4221-9593-2940742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CF2-6E09-49DC-AD44-8597E64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C77-BF71-45C2-9CD8-5DC713B0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1071-829F-43E8-B595-1CF80B0D96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6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022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Num - standard fo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600" y="2717640"/>
            <a:ext cx="7004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Create and answer questions such a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"If you travel at 70mph, how long will it take to get to Wolf 359 ?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1400" y="441360"/>
            <a:ext cx="5499000" cy="2015280"/>
            <a:chOff x="41400" y="441360"/>
            <a:chExt cx="5499000" cy="2015280"/>
          </a:xfrm>
        </p:grpSpPr>
        <p:sp>
          <p:nvSpPr>
            <p:cNvPr id="46" name=""/>
            <p:cNvSpPr/>
            <p:nvPr/>
          </p:nvSpPr>
          <p:spPr>
            <a:xfrm>
              <a:off x="41400" y="1174680"/>
              <a:ext cx="54990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(b)  A star called Wolf 359 is approximately 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7.8 light years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 from Earth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About how many 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kilometres 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is this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Write your answer in standard form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8280" y="441360"/>
              <a:ext cx="5213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(a)  One 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light year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 is approximately 9 430 000 000 000 kilometres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Write this distance in standard form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451480" y="0"/>
            <a:ext cx="187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Light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79840" y="0"/>
            <a:ext cx="187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Light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600" y="260280"/>
            <a:ext cx="7023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(a)  One </a:t>
            </a: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light year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is approximately 9 430 000 000 000 kilometr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Write this distance in standard for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27200"/>
            <a:ext cx="7423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(b)  A star called Wolf 359 is approximately </a:t>
            </a: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7.8 light years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from Ear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About how many </a:t>
            </a: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kilometres 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is thi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Write your answer in standard for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31:02Z</dcterms:created>
  <dc:creator>MDawes</dc:creator>
  <dc:description/>
  <dc:language>en-US</dc:language>
  <cp:lastModifiedBy>MDawes</cp:lastModifiedBy>
  <dcterms:modified xsi:type="dcterms:W3CDTF">2007-07-05T00:31:03Z</dcterms:modified>
  <cp:revision>1</cp:revision>
  <dc:subject/>
  <dc:title>Slide 1</dc:title>
</cp:coreProperties>
</file>