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E913-BC9C-4A39-A073-3A8A3959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D363-33F3-4F19-9360-99DE2B2E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05D9-C888-416F-ADA3-7476CFEA9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FC40-A0EB-412C-AC88-DB3F70298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EC0F-1581-412A-96E3-787A97E9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5767-D07A-4F5E-AA33-18F857A0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FBA6-2FC7-4565-88EF-D50879D5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4830-DACA-4CDA-BA93-5763BBF5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8580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A44C-E3CA-4428-B31F-6BD4520F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A4B8-A66D-4102-A585-0DB8BB87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2FAE-45EA-4847-B985-BE27DDF2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FB57-0B85-497F-BE14-BD725D9C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3440"/>
            <a:ext cx="24130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5357-0D7C-492A-B097-04BA2CF0BE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00" y="428760"/>
            <a:ext cx="741060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918480" y="12600"/>
            <a:ext cx="6602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4b0082"/>
                </a:solidFill>
                <a:latin typeface="Trebuchet MS"/>
              </a:rPr>
              <a:t>L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3498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0080"/>
                </a:solidFill>
                <a:latin typeface="Trebuchet MS"/>
              </a:rPr>
              <a:t>Teacher's Notes  </a:t>
            </a:r>
            <a:r>
              <a:rPr b="1" lang="en-GB" sz="1400" spc="-1" strike="noStrike">
                <a:solidFill>
                  <a:srgbClr val="800080"/>
                </a:solidFill>
                <a:latin typeface="Trebuchet MS"/>
              </a:rPr>
              <a:t>Topic: </a:t>
            </a:r>
            <a:r>
              <a:rPr b="0" lang="en-GB" sz="1400" spc="-1" strike="noStrike">
                <a:solidFill>
                  <a:srgbClr val="4b0082"/>
                </a:solidFill>
                <a:latin typeface="Trebuchet MS"/>
              </a:rPr>
              <a:t>Al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4600" y="351792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What other related expressions can </a:t>
            </a:r>
            <a:r>
              <a:rPr b="0" lang="en-GB" sz="1800" spc="-1" strike="noStrike" u="sng">
                <a:solidFill>
                  <a:srgbClr val="800080"/>
                </a:solidFill>
                <a:uFillTx/>
                <a:latin typeface="Trebuchet MS"/>
              </a:rPr>
              <a:t>you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 come up with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03040" y="517680"/>
            <a:ext cx="5121360" cy="2642400"/>
            <a:chOff x="203040" y="517680"/>
            <a:chExt cx="5121360" cy="2642400"/>
          </a:xfrm>
        </p:grpSpPr>
        <p:sp>
          <p:nvSpPr>
            <p:cNvPr id="46" name=""/>
            <p:cNvSpPr/>
            <p:nvPr/>
          </p:nvSpPr>
          <p:spPr>
            <a:xfrm>
              <a:off x="774720" y="2898720"/>
              <a:ext cx="3670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(</a:t>
              </a:r>
              <a:r>
                <a:rPr b="0" i="1" lang="en-GB" sz="1100" spc="-1" strike="noStrike">
                  <a:solidFill>
                    <a:srgbClr val="000000"/>
                  </a:solidFill>
                  <a:latin typeface="Trebuchet MS"/>
                </a:rPr>
                <a:t>x</a:t>
              </a: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 + </a:t>
              </a:r>
              <a:r>
                <a:rPr b="0" i="1" lang="en-GB" sz="1100" spc="-1" strike="noStrike">
                  <a:solidFill>
                    <a:srgbClr val="000000"/>
                  </a:solidFill>
                  <a:latin typeface="Trebuchet MS"/>
                </a:rPr>
                <a:t>a</a:t>
              </a: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)   +   (</a:t>
              </a:r>
              <a:r>
                <a:rPr b="0" i="1" lang="en-GB" sz="1100" spc="-1" strike="noStrike">
                  <a:solidFill>
                    <a:srgbClr val="000000"/>
                  </a:solidFill>
                  <a:latin typeface="Trebuchet MS"/>
                </a:rPr>
                <a:t>x</a:t>
              </a: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 + 1 + </a:t>
              </a:r>
              <a:r>
                <a:rPr b="0" i="1" lang="en-GB" sz="1100" spc="-1" strike="noStrike">
                  <a:solidFill>
                    <a:srgbClr val="000000"/>
                  </a:solidFill>
                  <a:latin typeface="Trebuchet MS"/>
                </a:rPr>
                <a:t>a</a:t>
              </a: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)   +   (</a:t>
              </a:r>
              <a:r>
                <a:rPr b="0" i="1" lang="en-GB" sz="1100" spc="-1" strike="noStrike">
                  <a:solidFill>
                    <a:srgbClr val="000000"/>
                  </a:solidFill>
                  <a:latin typeface="Trebuchet MS"/>
                </a:rPr>
                <a:t>x</a:t>
              </a: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 + 2 + </a:t>
              </a:r>
              <a:r>
                <a:rPr b="0" i="1" lang="en-GB" sz="1100" spc="-1" strike="noStrike">
                  <a:solidFill>
                    <a:srgbClr val="000000"/>
                  </a:solidFill>
                  <a:latin typeface="Trebuchet MS"/>
                </a:rPr>
                <a:t>a</a:t>
              </a: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)   =   </a:t>
              </a:r>
              <a:r>
                <a:rPr b="1" lang="en-GB" sz="1100" spc="-1" strike="noStrike">
                  <a:solidFill>
                    <a:srgbClr val="000000"/>
                  </a:solidFill>
                  <a:latin typeface="Trebuchet MS"/>
                </a:rPr>
                <a:t>_____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07920" y="2403360"/>
              <a:ext cx="3022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2</a:t>
              </a:r>
              <a:r>
                <a:rPr b="0" i="1" lang="en-GB" sz="1100" spc="-1" strike="noStrike">
                  <a:solidFill>
                    <a:srgbClr val="000000"/>
                  </a:solidFill>
                  <a:latin typeface="Trebuchet MS"/>
                </a:rPr>
                <a:t>x</a:t>
              </a: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   +   2(</a:t>
              </a:r>
              <a:r>
                <a:rPr b="0" i="1" lang="en-GB" sz="1100" spc="-1" strike="noStrike">
                  <a:solidFill>
                    <a:srgbClr val="000000"/>
                  </a:solidFill>
                  <a:latin typeface="Trebuchet MS"/>
                </a:rPr>
                <a:t>x</a:t>
              </a: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 + 1)   +   2(</a:t>
              </a:r>
              <a:r>
                <a:rPr b="0" i="1" lang="en-GB" sz="1100" spc="-1" strike="noStrike">
                  <a:solidFill>
                    <a:srgbClr val="000000"/>
                  </a:solidFill>
                  <a:latin typeface="Trebuchet MS"/>
                </a:rPr>
                <a:t>x</a:t>
              </a: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 + 2)   =   </a:t>
              </a:r>
              <a:r>
                <a:rPr b="1" lang="en-GB" sz="1100" spc="-1" strike="noStrike">
                  <a:solidFill>
                    <a:srgbClr val="000000"/>
                  </a:solidFill>
                  <a:latin typeface="Trebuchet MS"/>
                </a:rPr>
                <a:t>_____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84080" y="1898640"/>
              <a:ext cx="31561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(</a:t>
              </a:r>
              <a:r>
                <a:rPr b="0" i="1" lang="en-GB" sz="1100" spc="-1" strike="noStrike">
                  <a:solidFill>
                    <a:srgbClr val="000000"/>
                  </a:solidFill>
                  <a:latin typeface="Trebuchet MS"/>
                </a:rPr>
                <a:t>x</a:t>
              </a: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 + 5)   +   (</a:t>
              </a:r>
              <a:r>
                <a:rPr b="0" i="1" lang="en-GB" sz="1100" spc="-1" strike="noStrike">
                  <a:solidFill>
                    <a:srgbClr val="000000"/>
                  </a:solidFill>
                  <a:latin typeface="Trebuchet MS"/>
                </a:rPr>
                <a:t>x</a:t>
              </a: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 + 6)   +   (</a:t>
              </a:r>
              <a:r>
                <a:rPr b="0" i="1" lang="en-GB" sz="1100" spc="-1" strike="noStrike">
                  <a:solidFill>
                    <a:srgbClr val="000000"/>
                  </a:solidFill>
                  <a:latin typeface="Trebuchet MS"/>
                </a:rPr>
                <a:t>x</a:t>
              </a: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 + 7)   =   </a:t>
              </a:r>
              <a:r>
                <a:rPr b="1" lang="en-GB" sz="1100" spc="-1" strike="noStrike">
                  <a:solidFill>
                    <a:srgbClr val="000000"/>
                  </a:solidFill>
                  <a:latin typeface="Trebuchet MS"/>
                </a:rPr>
                <a:t>_____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74720" y="1422360"/>
              <a:ext cx="3155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5   +   </a:t>
              </a:r>
              <a:r>
                <a:rPr b="0" i="1" lang="en-GB" sz="1100" spc="-1" strike="noStrike">
                  <a:solidFill>
                    <a:srgbClr val="000000"/>
                  </a:solidFill>
                  <a:latin typeface="Trebuchet MS"/>
                </a:rPr>
                <a:t>x</a:t>
              </a: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   +   (</a:t>
              </a:r>
              <a:r>
                <a:rPr b="0" i="1" lang="en-GB" sz="1100" spc="-1" strike="noStrike">
                  <a:solidFill>
                    <a:srgbClr val="000000"/>
                  </a:solidFill>
                  <a:latin typeface="Trebuchet MS"/>
                </a:rPr>
                <a:t>x</a:t>
              </a: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 + 1)   +   (</a:t>
              </a:r>
              <a:r>
                <a:rPr b="0" i="1" lang="en-GB" sz="1100" spc="-1" strike="noStrike">
                  <a:solidFill>
                    <a:srgbClr val="000000"/>
                  </a:solidFill>
                  <a:latin typeface="Trebuchet MS"/>
                </a:rPr>
                <a:t>x</a:t>
              </a: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 + 2)   =   </a:t>
              </a:r>
              <a:r>
                <a:rPr b="1" lang="en-GB" sz="1100" spc="-1" strike="noStrike">
                  <a:solidFill>
                    <a:srgbClr val="000000"/>
                  </a:solidFill>
                  <a:latin typeface="Trebuchet MS"/>
                </a:rPr>
                <a:t>_____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12760" y="1117440"/>
              <a:ext cx="4165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Use it to help you write the missing expressions </a:t>
              </a: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</a:rPr>
                <a:t>in terms of 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Trebuchet MS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2376360" y="574560"/>
              <a:ext cx="2948040" cy="427320"/>
              <a:chOff x="2376360" y="574560"/>
              <a:chExt cx="2948040" cy="427320"/>
            </a:xfrm>
          </p:grpSpPr>
          <p:sp>
            <p:nvSpPr>
              <p:cNvPr id="52" name=""/>
              <p:cNvSpPr/>
              <p:nvPr/>
            </p:nvSpPr>
            <p:spPr>
              <a:xfrm>
                <a:off x="2470320" y="574560"/>
                <a:ext cx="285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Trebuchet MS"/>
                  </a:rPr>
                  <a:t>x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Trebuchet MS"/>
                  </a:rPr>
                  <a:t>   +   (</a:t>
                </a:r>
                <a:r>
                  <a:rPr b="0" i="1" lang="en-GB" sz="1400" spc="-1" strike="noStrike">
                    <a:solidFill>
                      <a:srgbClr val="000000"/>
                    </a:solidFill>
                    <a:latin typeface="Trebuchet MS"/>
                  </a:rPr>
                  <a:t>x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Trebuchet MS"/>
                  </a:rPr>
                  <a:t> + 1)   +   (</a:t>
                </a:r>
                <a:r>
                  <a:rPr b="0" i="1" lang="en-GB" sz="1400" spc="-1" strike="noStrike">
                    <a:solidFill>
                      <a:srgbClr val="000000"/>
                    </a:solidFill>
                    <a:latin typeface="Trebuchet MS"/>
                  </a:rPr>
                  <a:t>x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Trebuchet MS"/>
                  </a:rPr>
                  <a:t> + 2)   =   </a:t>
                </a:r>
                <a:r>
                  <a:rPr b="0" i="1" lang="en-GB" sz="1400" spc="-1" strike="noStrike">
                    <a:solidFill>
                      <a:srgbClr val="000000"/>
                    </a:solidFill>
                    <a:latin typeface="Trebuchet MS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376360" y="587520"/>
                <a:ext cx="2948040" cy="414360"/>
              </a:xfrm>
              <a:custGeom>
                <a:avLst/>
                <a:gdLst/>
                <a:ahLst/>
                <a:rect l="l" t="t" r="r" b="b"/>
                <a:pathLst>
                  <a:path w="1857" h="261">
                    <a:moveTo>
                      <a:pt x="0" y="0"/>
                    </a:moveTo>
                    <a:lnTo>
                      <a:pt x="1856" y="0"/>
                    </a:lnTo>
                    <a:lnTo>
                      <a:pt x="1856" y="260"/>
                    </a:lnTo>
                    <a:lnTo>
                      <a:pt x="0" y="26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203040" y="517680"/>
              <a:ext cx="231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Look at the equation in the bo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4946760" y="0"/>
            <a:ext cx="197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Expre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679840" y="0"/>
            <a:ext cx="197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Expre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" y="326880"/>
            <a:ext cx="3232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Look at the equation in the box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067200" y="399960"/>
            <a:ext cx="4192560" cy="600120"/>
            <a:chOff x="3067200" y="399960"/>
            <a:chExt cx="4192560" cy="600120"/>
          </a:xfrm>
        </p:grpSpPr>
        <p:sp>
          <p:nvSpPr>
            <p:cNvPr id="59" name=""/>
            <p:cNvSpPr/>
            <p:nvPr/>
          </p:nvSpPr>
          <p:spPr>
            <a:xfrm>
              <a:off x="3232080" y="412920"/>
              <a:ext cx="39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rebuchet MS"/>
                </a:rPr>
                <a:t>x</a:t>
              </a:r>
              <a:r>
                <a:rPr b="0" lang="en-GB" sz="2000" spc="-1" strike="noStrike">
                  <a:solidFill>
                    <a:srgbClr val="000000"/>
                  </a:solidFill>
                  <a:latin typeface="Trebuchet MS"/>
                </a:rPr>
                <a:t>   +   (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Trebuchet MS"/>
                </a:rPr>
                <a:t>x</a:t>
              </a:r>
              <a:r>
                <a:rPr b="0" lang="en-GB" sz="2000" spc="-1" strike="noStrike">
                  <a:solidFill>
                    <a:srgbClr val="000000"/>
                  </a:solidFill>
                  <a:latin typeface="Trebuchet MS"/>
                </a:rPr>
                <a:t> + 1)   +   (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Trebuchet MS"/>
                </a:rPr>
                <a:t>x</a:t>
              </a:r>
              <a:r>
                <a:rPr b="0" lang="en-GB" sz="2000" spc="-1" strike="noStrike">
                  <a:solidFill>
                    <a:srgbClr val="000000"/>
                  </a:solidFill>
                  <a:latin typeface="Trebuchet MS"/>
                </a:rPr>
                <a:t> + 2)   =   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Trebuchet MS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67200" y="399960"/>
              <a:ext cx="4192560" cy="600120"/>
            </a:xfrm>
            <a:custGeom>
              <a:avLst/>
              <a:gdLst/>
              <a:ahLst/>
              <a:rect l="l" t="t" r="r" b="b"/>
              <a:pathLst>
                <a:path w="2641" h="378">
                  <a:moveTo>
                    <a:pt x="0" y="0"/>
                  </a:moveTo>
                  <a:lnTo>
                    <a:pt x="2640" y="0"/>
                  </a:lnTo>
                  <a:lnTo>
                    <a:pt x="2640" y="377"/>
                  </a:lnTo>
                  <a:lnTo>
                    <a:pt x="0" y="37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22320" y="1203480"/>
            <a:ext cx="5860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Use it to help you write the missing expressions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in terms of </a:t>
            </a:r>
            <a:r>
              <a:rPr b="1" i="1" lang="en-GB" sz="1500" spc="-1" strike="noStrike">
                <a:solidFill>
                  <a:srgbClr val="000000"/>
                </a:solidFill>
                <a:latin typeface="Trebuchet MS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22240" y="1641600"/>
            <a:ext cx="443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ebuchet MS"/>
              </a:rPr>
              <a:t>5   +   </a:t>
            </a:r>
            <a:r>
              <a:rPr b="0" i="1" lang="en-GB" sz="16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</a:rPr>
              <a:t>   +   (</a:t>
            </a:r>
            <a:r>
              <a:rPr b="0" i="1" lang="en-GB" sz="16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</a:rPr>
              <a:t> + 1)   +   (</a:t>
            </a:r>
            <a:r>
              <a:rPr b="0" i="1" lang="en-GB" sz="16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</a:rPr>
              <a:t> + 2)   =   </a:t>
            </a: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1960" y="2327400"/>
            <a:ext cx="443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i="1" lang="en-GB" sz="16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</a:rPr>
              <a:t> + 5)   +   (</a:t>
            </a:r>
            <a:r>
              <a:rPr b="0" i="1" lang="en-GB" sz="16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</a:rPr>
              <a:t> + 6)   +   (</a:t>
            </a:r>
            <a:r>
              <a:rPr b="0" i="1" lang="en-GB" sz="16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</a:rPr>
              <a:t> + 7)   =   </a:t>
            </a: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03320" y="3070080"/>
            <a:ext cx="424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i="1" lang="en-GB" sz="16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</a:rPr>
              <a:t>   +   2(</a:t>
            </a:r>
            <a:r>
              <a:rPr b="0" i="1" lang="en-GB" sz="16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</a:rPr>
              <a:t> + 1)   +   2(</a:t>
            </a:r>
            <a:r>
              <a:rPr b="0" i="1" lang="en-GB" sz="16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</a:rPr>
              <a:t> + 2)   =   </a:t>
            </a: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12880" y="3784680"/>
            <a:ext cx="51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i="1" lang="en-GB" sz="16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</a:rPr>
              <a:t> + </a:t>
            </a:r>
            <a:r>
              <a:rPr b="0" i="1" lang="en-GB" sz="1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</a:rPr>
              <a:t>)   +   (</a:t>
            </a:r>
            <a:r>
              <a:rPr b="0" i="1" lang="en-GB" sz="16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</a:rPr>
              <a:t> + 1 + </a:t>
            </a:r>
            <a:r>
              <a:rPr b="0" i="1" lang="en-GB" sz="1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</a:rPr>
              <a:t>)   +   (</a:t>
            </a:r>
            <a:r>
              <a:rPr b="0" i="1" lang="en-GB" sz="16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</a:rPr>
              <a:t> + 2 + </a:t>
            </a:r>
            <a:r>
              <a:rPr b="0" i="1" lang="en-GB" sz="1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</a:rPr>
              <a:t>)   =   </a:t>
            </a: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5T00:29:27Z</dcterms:created>
  <dc:creator>MDawes</dc:creator>
  <dc:description/>
  <dc:language>en-US</dc:language>
  <cp:lastModifiedBy>MDawes</cp:lastModifiedBy>
  <dcterms:modified xsi:type="dcterms:W3CDTF">2007-07-05T00:29:28Z</dcterms:modified>
  <cp:revision>1</cp:revision>
  <dc:subject/>
  <dc:title>Slide 1</dc:title>
</cp:coreProperties>
</file>