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D71-4A7D-47DB-A994-9BEB4D8E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3EB-3AAA-44B2-AE76-C7E8F613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16F-99B1-4ABF-ACAC-342FE09B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128-AAE5-4F51-9024-A5BFE588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824-C1FD-4317-BAF6-85A91D64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113-0C8E-4239-9407-F42A6C82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C08-1B35-4523-A512-6901C36E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9BF-A97B-47CC-A4CA-82E34EBD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A40-71B4-49B8-8F46-F8AFC989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5F3-F9BF-4F4C-8C85-9F97DA2E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922-9610-4C8C-9651-A7B928A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9BB-B274-4D9E-86C4-5EC83AB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25B2-5D8B-40A4-A551-00664CDA6F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175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Num - problem solv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400" y="3270240"/>
            <a:ext cx="77277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Are there any numbers of £1 and 50p coins that would be impossibl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[eg 4 £1 coins and 1 50p coin,  4  50p coins only ...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Can you make an algebraic formula to work out the answer for </a:t>
            </a:r>
            <a:r>
              <a:rPr b="0" lang="en-GB" sz="1700" spc="-1" strike="noStrike" u="sng">
                <a:solidFill>
                  <a:srgbClr val="800080"/>
                </a:solidFill>
                <a:uFillTx/>
                <a:latin typeface="Trebuchet MS"/>
              </a:rPr>
              <a:t>any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legitimate number of £1 coins and 50p coins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7360" y="479520"/>
            <a:ext cx="4556160" cy="2732040"/>
            <a:chOff x="117360" y="479520"/>
            <a:chExt cx="4556160" cy="2732040"/>
          </a:xfrm>
        </p:grpSpPr>
        <p:sp>
          <p:nvSpPr>
            <p:cNvPr id="46" name=""/>
            <p:cNvSpPr/>
            <p:nvPr/>
          </p:nvSpPr>
          <p:spPr>
            <a:xfrm>
              <a:off x="184320" y="2965320"/>
              <a:ext cx="448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On that day, what percentage of drivers paid with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three 50p coin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5520" y="1841400"/>
              <a:ext cx="34038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ere is what was put into the machine that day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Number of £1 coin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1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Number of 50p coin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2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22440" y="849240"/>
              <a:ext cx="3708360" cy="930240"/>
              <a:chOff x="622440" y="849240"/>
              <a:chExt cx="3708360" cy="930240"/>
            </a:xfrm>
          </p:grpSpPr>
          <p:sp>
            <p:nvSpPr>
              <p:cNvPr id="49" name=""/>
              <p:cNvSpPr/>
              <p:nvPr/>
            </p:nvSpPr>
            <p:spPr>
              <a:xfrm>
                <a:off x="622440" y="851040"/>
                <a:ext cx="370836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Car pa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rebuchet MS"/>
                  </a:rPr>
                  <a:t>Pay exactly  £ 1.50  to ent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rebuchet MS"/>
                  </a:rPr>
                  <a:t>Machine accepts only  £1 coins and  50p  co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38080" y="849240"/>
                <a:ext cx="3273480" cy="930240"/>
              </a:xfrm>
              <a:custGeom>
                <a:avLst/>
                <a:gdLst/>
                <a:ahLst/>
                <a:rect l="l" t="t" r="r" b="b"/>
                <a:pathLst>
                  <a:path w="2062" h="586">
                    <a:moveTo>
                      <a:pt x="0" y="0"/>
                    </a:moveTo>
                    <a:lnTo>
                      <a:pt x="2061" y="0"/>
                    </a:lnTo>
                    <a:lnTo>
                      <a:pt x="2061" y="585"/>
                    </a:lnTo>
                    <a:lnTo>
                      <a:pt x="0" y="58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38080" y="1170000"/>
                <a:ext cx="327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17360" y="479520"/>
              <a:ext cx="407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One day, each driver entering a car park paid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exactly  £ 1.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565600" y="0"/>
            <a:ext cx="155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ar pa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37040" y="0"/>
            <a:ext cx="155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ar pa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5240" y="374760"/>
            <a:ext cx="567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One day, each driver entering a car park paid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exactly  £ 1.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70120" y="876240"/>
            <a:ext cx="5155920" cy="1325520"/>
            <a:chOff x="870120" y="876240"/>
            <a:chExt cx="5155920" cy="1325520"/>
          </a:xfrm>
        </p:grpSpPr>
        <p:sp>
          <p:nvSpPr>
            <p:cNvPr id="57" name=""/>
            <p:cNvSpPr/>
            <p:nvPr/>
          </p:nvSpPr>
          <p:spPr>
            <a:xfrm>
              <a:off x="870120" y="907920"/>
              <a:ext cx="51559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Car par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Pay exactly  £ 1.50  to en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Machine accepts only  £1 coins and  50p  coi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2360" y="876240"/>
              <a:ext cx="4602240" cy="1325520"/>
            </a:xfrm>
            <a:custGeom>
              <a:avLst/>
              <a:gdLst/>
              <a:ahLst/>
              <a:rect l="l" t="t" r="r" b="b"/>
              <a:pathLst>
                <a:path w="2899" h="835">
                  <a:moveTo>
                    <a:pt x="0" y="0"/>
                  </a:moveTo>
                  <a:lnTo>
                    <a:pt x="2898" y="0"/>
                  </a:lnTo>
                  <a:lnTo>
                    <a:pt x="289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2360" y="1333440"/>
              <a:ext cx="46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12760" y="2317680"/>
            <a:ext cx="473724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re is what was put into the machine that da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Number of £1 coin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13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Number of 50p coin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280" y="3927600"/>
            <a:ext cx="626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On that day, what percentage of drivers paid wit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three 50p coin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7:49Z</dcterms:created>
  <dc:creator>MDawes</dc:creator>
  <dc:description/>
  <dc:language>en-US</dc:language>
  <cp:lastModifiedBy>MDawes</cp:lastModifiedBy>
  <dcterms:modified xsi:type="dcterms:W3CDTF">2007-07-05T00:27:50Z</dcterms:modified>
  <cp:revision>1</cp:revision>
  <dc:subject/>
  <dc:title>Slide 1</dc:title>
</cp:coreProperties>
</file>