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045-EBEF-4927-849D-C9BB480B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8B3-4227-4BDA-8EB3-138A620D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EEA-9F8C-4E2B-A4FD-DD1B119F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9D7-1740-4F3E-872E-DBA68B6F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BED-2A69-449F-A097-D6DD914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8E1-E0E8-4148-9741-CAD357A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98E-4AB9-41A5-A024-FA9E1D5F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B3F-041A-4F0D-88E4-0AE1D88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A42-8B02-45E4-82E8-20408F9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2B8-0671-4624-8C3A-D53FAD0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27D-C453-41E9-BB47-8B4F2BD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653-8DE2-4CF4-B665-E319283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9868-9ACF-414C-BB3B-2FD1C34045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6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simplify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307980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rite an expression that simplifies to give one of the other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Then do another on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9480" y="0"/>
            <a:ext cx="19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implif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4600" y="479520"/>
            <a:ext cx="4318200" cy="2597040"/>
            <a:chOff x="174600" y="479520"/>
            <a:chExt cx="4318200" cy="2597040"/>
          </a:xfrm>
        </p:grpSpPr>
        <p:sp>
          <p:nvSpPr>
            <p:cNvPr id="47" name=""/>
            <p:cNvSpPr/>
            <p:nvPr/>
          </p:nvSpPr>
          <p:spPr>
            <a:xfrm>
              <a:off x="2936880" y="2774880"/>
              <a:ext cx="888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4(</a:t>
              </a:r>
              <a:r>
                <a:rPr b="0" i="1" lang="en-GB" sz="1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+ 3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4840" y="2784600"/>
              <a:ext cx="755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r>
                <a:rPr b="0" i="1" lang="en-GB" sz="1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+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36800" y="2222640"/>
              <a:ext cx="756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i="1" lang="en-GB" sz="1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+ 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70160" y="2241720"/>
              <a:ext cx="679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7 + </a:t>
              </a:r>
              <a:r>
                <a:rPr b="0" i="1" lang="en-GB" sz="1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320" y="1393920"/>
              <a:ext cx="4184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hich expression below shows it written as simply as possi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Put a ring around the correct on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730520" y="755640"/>
              <a:ext cx="1238040" cy="406440"/>
              <a:chOff x="1730520" y="755640"/>
              <a:chExt cx="1238040" cy="406440"/>
            </a:xfrm>
          </p:grpSpPr>
          <p:sp>
            <p:nvSpPr>
              <p:cNvPr id="53" name=""/>
              <p:cNvSpPr/>
              <p:nvPr/>
            </p:nvSpPr>
            <p:spPr>
              <a:xfrm>
                <a:off x="1812960" y="765000"/>
                <a:ext cx="1155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i="1" lang="en-GB" sz="13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rebuchet MS"/>
                  </a:rPr>
                  <a:t> + 3 + 2</a:t>
                </a:r>
                <a:r>
                  <a:rPr b="0" i="1" lang="en-GB" sz="13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30520" y="755640"/>
                <a:ext cx="1195200" cy="406440"/>
              </a:xfrm>
              <a:custGeom>
                <a:avLst/>
                <a:gdLst/>
                <a:ahLst/>
                <a:rect l="l" t="t" r="r" b="b"/>
                <a:pathLst>
                  <a:path w="753" h="256">
                    <a:moveTo>
                      <a:pt x="0" y="0"/>
                    </a:moveTo>
                    <a:lnTo>
                      <a:pt x="752" y="0"/>
                    </a:lnTo>
                    <a:lnTo>
                      <a:pt x="752" y="25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79480" y="2222640"/>
              <a:ext cx="46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r>
                <a:rPr b="0" i="1" lang="en-GB" sz="1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600" y="479520"/>
              <a:ext cx="189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Here is an express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37623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6440" y="3870360"/>
            <a:ext cx="3251160" cy="1185120"/>
            <a:chOff x="136440" y="3870360"/>
            <a:chExt cx="3251160" cy="1185120"/>
          </a:xfrm>
        </p:grpSpPr>
        <p:sp>
          <p:nvSpPr>
            <p:cNvPr id="59" name=""/>
            <p:cNvSpPr/>
            <p:nvPr/>
          </p:nvSpPr>
          <p:spPr>
            <a:xfrm>
              <a:off x="146160" y="4794120"/>
              <a:ext cx="3079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rite this expression as simply as possib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758960" y="4148280"/>
              <a:ext cx="1628640" cy="396720"/>
              <a:chOff x="1758960" y="4148280"/>
              <a:chExt cx="1628640" cy="396720"/>
            </a:xfrm>
          </p:grpSpPr>
          <p:sp>
            <p:nvSpPr>
              <p:cNvPr id="61" name=""/>
              <p:cNvSpPr/>
              <p:nvPr/>
            </p:nvSpPr>
            <p:spPr>
              <a:xfrm>
                <a:off x="1851120" y="4156200"/>
                <a:ext cx="153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3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4 + 5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-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58960" y="4148280"/>
                <a:ext cx="1589040" cy="396720"/>
              </a:xfrm>
              <a:custGeom>
                <a:avLst/>
                <a:gdLst/>
                <a:ahLst/>
                <a:rect l="l" t="t" r="r" b="b"/>
                <a:pathLst>
                  <a:path w="1001" h="250">
                    <a:moveTo>
                      <a:pt x="0" y="0"/>
                    </a:moveTo>
                    <a:lnTo>
                      <a:pt x="1000" y="0"/>
                    </a:lnTo>
                    <a:lnTo>
                      <a:pt x="1000" y="249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36440" y="3870360"/>
              <a:ext cx="250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Here is a different expressio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1800" y="0"/>
            <a:ext cx="19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implif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8280" y="393840"/>
            <a:ext cx="262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Here is an express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2889360"/>
            <a:ext cx="62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7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66920" y="762120"/>
            <a:ext cx="1720800" cy="582480"/>
            <a:chOff x="2266920" y="762120"/>
            <a:chExt cx="1720800" cy="582480"/>
          </a:xfrm>
        </p:grpSpPr>
        <p:sp>
          <p:nvSpPr>
            <p:cNvPr id="68" name=""/>
            <p:cNvSpPr/>
            <p:nvPr/>
          </p:nvSpPr>
          <p:spPr>
            <a:xfrm>
              <a:off x="2413080" y="803160"/>
              <a:ext cx="1574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 + 3 + 2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66920" y="762120"/>
              <a:ext cx="1687680" cy="582480"/>
            </a:xfrm>
            <a:custGeom>
              <a:avLst/>
              <a:gdLst/>
              <a:ahLst/>
              <a:rect l="l" t="t" r="r" b="b"/>
              <a:pathLst>
                <a:path w="1063" h="367">
                  <a:moveTo>
                    <a:pt x="0" y="0"/>
                  </a:moveTo>
                  <a:lnTo>
                    <a:pt x="1062" y="0"/>
                  </a:lnTo>
                  <a:lnTo>
                    <a:pt x="1062" y="366"/>
                  </a:lnTo>
                  <a:lnTo>
                    <a:pt x="0" y="36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17360" y="1708200"/>
            <a:ext cx="5842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ich expression below shows it written as simply as possibl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Put a ring around the correct o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0720" y="2917800"/>
            <a:ext cx="90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7 +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27480" y="28987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3880" y="36990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4200" y="368928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4(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8280" y="393840"/>
            <a:ext cx="3346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Here is a different express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66920" y="762120"/>
            <a:ext cx="2178000" cy="563400"/>
            <a:chOff x="2266920" y="762120"/>
            <a:chExt cx="2178000" cy="563400"/>
          </a:xfrm>
        </p:grpSpPr>
        <p:sp>
          <p:nvSpPr>
            <p:cNvPr id="77" name=""/>
            <p:cNvSpPr/>
            <p:nvPr/>
          </p:nvSpPr>
          <p:spPr>
            <a:xfrm>
              <a:off x="2413080" y="803160"/>
              <a:ext cx="2031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 + 4 + 5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 -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6920" y="762120"/>
              <a:ext cx="2144880" cy="563400"/>
            </a:xfrm>
            <a:custGeom>
              <a:avLst/>
              <a:gdLst/>
              <a:ahLst/>
              <a:rect l="l" t="t" r="r" b="b"/>
              <a:pathLst>
                <a:path w="1351" h="355">
                  <a:moveTo>
                    <a:pt x="0" y="0"/>
                  </a:moveTo>
                  <a:lnTo>
                    <a:pt x="1350" y="0"/>
                  </a:lnTo>
                  <a:lnTo>
                    <a:pt x="1350" y="354"/>
                  </a:lnTo>
                  <a:lnTo>
                    <a:pt x="0" y="3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7360" y="1708200"/>
            <a:ext cx="410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this expression as simply as possib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9:39Z</dcterms:created>
  <dc:creator>MDawes</dc:creator>
  <dc:description/>
  <dc:language>en-US</dc:language>
  <cp:lastModifiedBy>MDawes</cp:lastModifiedBy>
  <dcterms:modified xsi:type="dcterms:W3CDTF">2007-07-04T11:39:40Z</dcterms:modified>
  <cp:revision>1</cp:revision>
  <dc:subject/>
  <dc:title>Slide 1</dc:title>
</cp:coreProperties>
</file>