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D93-2BE5-4387-A0BA-D3A3EBAD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7BB-B203-4500-9F04-D579ED11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09C-67DD-4488-B0CC-6EC82EE1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204-2878-4C73-BC1F-475BABC4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C01-E842-486C-A02F-6E9F9302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58F-C4C1-43EE-B1BA-7285B4E6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496-BBE4-4735-89F9-E54B8D6F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C2A-A39D-4B7E-A56B-3AAAD4AA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3C5-8905-4EB3-90DB-2EC7A7D4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C77-7DD9-4F58-8CBF-A04C2A1F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26B-5236-4043-AE64-D8CDA212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2FC0-7357-46CE-9294-3C93E87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B655-2E3B-45C6-8042-CDF80B1B37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6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41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Alg -  y=mx+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46360" y="669960"/>
            <a:ext cx="391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Draw a different straight line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and another, and another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Find an unusual one (eg it crosses the y-axis at 3.7, or it has a gradient of 1 but on this diagram it doesn't cross either ax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160" y="3381480"/>
            <a:ext cx="741024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4520" y="3470400"/>
            <a:ext cx="4051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What other lines pass through (0,20)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18120" y="0"/>
            <a:ext cx="216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Straight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8920" y="384120"/>
            <a:ext cx="3327480" cy="3073320"/>
            <a:chOff x="88920" y="384120"/>
            <a:chExt cx="3327480" cy="30733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227160" y="584280"/>
              <a:ext cx="2541600" cy="25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8920" y="3089160"/>
              <a:ext cx="332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rebuchet MS"/>
                </a:rPr>
                <a:t>(a)  On the graph, draw a different straight line with gradient 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2760" y="384120"/>
              <a:ext cx="252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rebuchet MS"/>
                </a:rPr>
                <a:t>The graph shows a straight line with </a:t>
              </a:r>
              <a:r>
                <a:rPr b="1" lang="en-GB" sz="900" spc="-1" strike="noStrike">
                  <a:solidFill>
                    <a:srgbClr val="000000"/>
                  </a:solidFill>
                  <a:latin typeface="Trebuchet MS"/>
                </a:rPr>
                <a:t>gradient 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1400" y="3336840"/>
            <a:ext cx="367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(b)  The equation of another straight line is </a:t>
            </a:r>
            <a:r>
              <a:rPr b="0" i="1" lang="en-GB" sz="10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= 5</a:t>
            </a:r>
            <a:r>
              <a:rPr b="0" i="1" lang="en-GB" sz="10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+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The straight line </a:t>
            </a:r>
            <a:r>
              <a:rPr b="0" i="1" lang="en-GB" sz="10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= 5</a:t>
            </a:r>
            <a:r>
              <a:rPr b="0" i="1" lang="en-GB" sz="10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+ 20 passes through ( 0,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____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160" y="4086360"/>
            <a:ext cx="741024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0" y="4079880"/>
            <a:ext cx="4394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(c)  A straight line is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parallel 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to the line with equation  </a:t>
            </a:r>
            <a:r>
              <a:rPr b="0" i="1" lang="en-GB" sz="10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= 5</a:t>
            </a:r>
            <a:r>
              <a:rPr b="0" i="1" lang="en-GB" sz="10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+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It passes through the point ( 0, 10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What is the equation of this straight lin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27520" y="4422600"/>
            <a:ext cx="466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What other questions can you ask/answe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4320" y="0"/>
            <a:ext cx="216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Straight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08320" y="50760"/>
            <a:ext cx="4451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e graph shows a straight line with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gradient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5520" y="5099040"/>
            <a:ext cx="589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a)  On the graph, draw a different straight line with gradient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90520" y="504720"/>
            <a:ext cx="45720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27040" y="441360"/>
            <a:ext cx="5118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b)  The equation of another straight line is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= 5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+ 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e straight line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= 5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+ 20 passes through ( 0,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5680" y="317520"/>
            <a:ext cx="631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c)  A straight line is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parallel 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o the line with equation 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= 5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+ 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It passes through the point ( 0, 10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What is the equation of this straight lin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28:15Z</dcterms:created>
  <dc:creator>MDawes</dc:creator>
  <dc:description/>
  <dc:language>en-US</dc:language>
  <cp:lastModifiedBy>MDawes</cp:lastModifiedBy>
  <dcterms:modified xsi:type="dcterms:W3CDTF">2007-07-05T00:28:16Z</dcterms:modified>
  <cp:revision>1</cp:revision>
  <dc:subject/>
  <dc:title>Slide 1</dc:title>
</cp:coreProperties>
</file>