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DC9-6135-449B-9179-3F6C45B7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470-5570-4154-823F-67E26D05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503-AAFA-4CED-808D-3536C035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4DF-4315-4822-A0B2-FCF35832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B3E-ED13-4EA7-850B-DFC7F804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232-0ACD-405C-B9CB-D3EE551A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9DC-7750-4F59-B1AD-8EC515C3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AC0-7532-4971-9B1F-AF6ACF2F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59D-D197-467F-B2EE-98484780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407-555F-4ADD-8538-7BC20641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05E-945B-480D-B272-B676F9DD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1AC-3EAD-4977-91BB-F1E73D3B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8DB6-EB95-4160-AB6D-AFA257E138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88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Num - calcu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98680"/>
            <a:ext cx="626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NB this is from a Calculator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How many ways can you work out the answ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Eg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work out the cost of </a:t>
            </a:r>
            <a:r>
              <a:rPr b="0" lang="en-GB" sz="1800" spc="-1" strike="noStrike" u="sng">
                <a:solidFill>
                  <a:srgbClr val="800080"/>
                </a:solidFill>
                <a:uFillTx/>
                <a:latin typeface="Trebuchet MS"/>
              </a:rPr>
              <a:t>one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 can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work out the cost of 6 packs of 4 and 4 packs of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51320" y="0"/>
            <a:ext cx="17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Lemon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8000" y="403200"/>
            <a:ext cx="4089240" cy="2884680"/>
            <a:chOff x="108000" y="403200"/>
            <a:chExt cx="4089240" cy="288468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2720880" y="447840"/>
              <a:ext cx="1019160" cy="25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08000" y="2889360"/>
              <a:ext cx="4089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Katie pays more for her 24 cans than Steve pays for his 24 can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How much mo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8000" y="1689120"/>
              <a:ext cx="2241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Steve buys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24 cans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of lemonad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He buys the cans in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packs of 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Each pack costs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£1.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8000" y="403200"/>
              <a:ext cx="22222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Katie buys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24 cans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of lemonad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She buys the cans in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packs of 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Each pack costs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£1.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6160" y="365040"/>
            <a:ext cx="32320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Katie buys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24 cans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of lemonad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She buys the cans in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packs of 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Each pack costs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£1.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03520" y="0"/>
            <a:ext cx="178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Lemon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6160" y="2279520"/>
            <a:ext cx="32511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Steve buys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24 cans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of lemonad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He buys the cans in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packs of 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Each pack costs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£1.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160" y="4070520"/>
            <a:ext cx="5975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Katie pays more for her 24 cans than Steve pays for his 24 can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How much mor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71880" y="399960"/>
            <a:ext cx="150516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41:13Z</dcterms:created>
  <dc:creator>MDawes</dc:creator>
  <dc:description/>
  <dc:language>en-US</dc:language>
  <cp:lastModifiedBy>MDawes</cp:lastModifiedBy>
  <dcterms:modified xsi:type="dcterms:W3CDTF">2007-07-04T11:41:14Z</dcterms:modified>
  <cp:revision>1</cp:revision>
  <dc:subject/>
  <dc:title>Slide 1</dc:title>
</cp:coreProperties>
</file>