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C91-05A2-48B4-9F1C-A7A29533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DC0-4D77-4856-923C-F805E32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4A6-C10C-4580-A4BA-C6200212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774-6138-4104-B4E2-587A2C4E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CF0-226C-4649-AA60-4DF17659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591-7E11-4609-A484-3B2BE435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F0B-287E-4575-AC1C-5D8E1F2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D82-4717-4114-A581-933B8923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664-1269-466D-8071-DF78593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522-B34B-49E5-A80E-7CD581B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174-1F58-470C-9AA8-EB4AE492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416-F752-4356-9E35-02D92D9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56CC-D1E0-4270-96B4-42DE06FC81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07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 - solve equ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3160" y="2365200"/>
            <a:ext cx="26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if we chang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+ to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32 to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37320" y="0"/>
            <a:ext cx="13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7800" y="765000"/>
            <a:ext cx="1899000" cy="1084320"/>
            <a:chOff x="307800" y="765000"/>
            <a:chExt cx="1899000" cy="1084320"/>
          </a:xfrm>
        </p:grpSpPr>
        <p:sp>
          <p:nvSpPr>
            <p:cNvPr id="47" name=""/>
            <p:cNvSpPr/>
            <p:nvPr/>
          </p:nvSpPr>
          <p:spPr>
            <a:xfrm>
              <a:off x="612720" y="1527120"/>
              <a:ext cx="1594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375 = 37 + 26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2720" y="1069920"/>
              <a:ext cx="1498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32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+ 53 = 50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7800" y="765000"/>
              <a:ext cx="161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olve these equa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6160" y="365040"/>
            <a:ext cx="231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olve these equatio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3520" y="0"/>
            <a:ext cx="13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3360" y="1031760"/>
            <a:ext cx="216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32</a:t>
            </a:r>
            <a:r>
              <a:rPr b="0" i="1" lang="en-GB" sz="22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+ 53 = 5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0880" y="3346560"/>
            <a:ext cx="229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375 = 37 + 26</a:t>
            </a:r>
            <a:r>
              <a:rPr b="0" i="1" lang="en-GB" sz="22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9:59Z</dcterms:created>
  <dc:creator>MDawes</dc:creator>
  <dc:description/>
  <dc:language>en-US</dc:language>
  <cp:lastModifiedBy>MDawes</cp:lastModifiedBy>
  <dcterms:modified xsi:type="dcterms:W3CDTF">2007-07-04T11:40:00Z</dcterms:modified>
  <cp:revision>1</cp:revision>
  <dc:subject/>
  <dc:title>Slide 1</dc:title>
</cp:coreProperties>
</file>