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AF4-8CEF-48FA-A428-E20BCB79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746-FA13-4CCA-B4A9-ADC331D8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E15-8F3B-484F-A004-B406070B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D60-6F9E-44AA-9FC5-A7C1378B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9B2-D2FC-41C7-AE5B-99857794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110-935A-4CAC-A695-DBB8E68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A96-3DD1-4494-9A2A-FF9A4AAC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ED7-C8D5-4F6D-A5EE-1A9E2DD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6EA-185C-46F8-914A-FD5F07F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A91-0F79-464B-89C0-69D6D6B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CC6-3512-45BF-85DA-777738F5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423-FD52-463F-ADFF-F03FA27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8FC0-9264-4976-A10D-FD6724FBB7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58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Num - ro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79880" y="1422360"/>
            <a:ext cx="288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Round it t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3 significant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2 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6 sf 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160" y="277164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2120" y="444168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NB: this question is from a Calculator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s the percentage error for each 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5440" y="0"/>
            <a:ext cx="66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1680" y="498600"/>
            <a:ext cx="4060800" cy="1865160"/>
            <a:chOff x="31680" y="498600"/>
            <a:chExt cx="4060800" cy="1865160"/>
          </a:xfrm>
        </p:grpSpPr>
        <p:sp>
          <p:nvSpPr>
            <p:cNvPr id="49" name=""/>
            <p:cNvSpPr/>
            <p:nvPr/>
          </p:nvSpPr>
          <p:spPr>
            <a:xfrm>
              <a:off x="31680" y="517680"/>
              <a:ext cx="344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The value of     correct to 7 decimal places i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6720" y="498600"/>
              <a:ext cx="336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214720" y="898560"/>
              <a:ext cx="1363680" cy="377640"/>
              <a:chOff x="2214720" y="898560"/>
              <a:chExt cx="1363680" cy="377640"/>
            </a:xfrm>
          </p:grpSpPr>
          <p:sp>
            <p:nvSpPr>
              <p:cNvPr id="52" name=""/>
              <p:cNvSpPr/>
              <p:nvPr/>
            </p:nvSpPr>
            <p:spPr>
              <a:xfrm>
                <a:off x="2308320" y="898560"/>
                <a:ext cx="1270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rebuchet MS"/>
                  </a:rPr>
                  <a:t>3.14159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14720" y="914400"/>
                <a:ext cx="1314360" cy="361800"/>
              </a:xfrm>
              <a:custGeom>
                <a:avLst/>
                <a:gdLst/>
                <a:ahLst/>
                <a:rect l="l" t="t" r="r" b="b"/>
                <a:pathLst>
                  <a:path w="828" h="228">
                    <a:moveTo>
                      <a:pt x="0" y="0"/>
                    </a:moveTo>
                    <a:lnTo>
                      <a:pt x="827" y="0"/>
                    </a:lnTo>
                    <a:lnTo>
                      <a:pt x="827" y="227"/>
                    </a:lnTo>
                    <a:lnTo>
                      <a:pt x="0" y="22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60480" y="1603440"/>
              <a:ext cx="40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a)  Write the value of     correct to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4 decimal places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60680" y="1574640"/>
              <a:ext cx="336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43160" y="2001960"/>
              <a:ext cx="1316160" cy="361800"/>
            </a:xfrm>
            <a:custGeom>
              <a:avLst/>
              <a:gdLst/>
              <a:ahLst/>
              <a:rect l="l" t="t" r="r" b="b"/>
              <a:pathLst>
                <a:path w="829" h="228">
                  <a:moveTo>
                    <a:pt x="0" y="0"/>
                  </a:moveTo>
                  <a:lnTo>
                    <a:pt x="828" y="0"/>
                  </a:lnTo>
                  <a:lnTo>
                    <a:pt x="828" y="227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9840" y="2774880"/>
            <a:ext cx="4432320" cy="1791360"/>
            <a:chOff x="69840" y="2774880"/>
            <a:chExt cx="4432320" cy="1791360"/>
          </a:xfrm>
        </p:grpSpPr>
        <p:grpSp>
          <p:nvGrpSpPr>
            <p:cNvPr id="58" name=""/>
            <p:cNvGrpSpPr/>
            <p:nvPr/>
          </p:nvGrpSpPr>
          <p:grpSpPr>
            <a:xfrm>
              <a:off x="2384280" y="3441600"/>
              <a:ext cx="1251000" cy="666360"/>
              <a:chOff x="2384280" y="3441600"/>
              <a:chExt cx="1251000" cy="666360"/>
            </a:xfrm>
          </p:grpSpPr>
          <p:sp>
            <p:nvSpPr>
              <p:cNvPr id="59" name=""/>
              <p:cNvSpPr/>
              <p:nvPr/>
            </p:nvSpPr>
            <p:spPr>
              <a:xfrm>
                <a:off x="2765520" y="3527280"/>
                <a:ext cx="488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 u="sng">
                    <a:solidFill>
                      <a:srgbClr val="000000"/>
                    </a:solidFill>
                    <a:uFillTx/>
                    <a:latin typeface="Trebuchet MS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rebuchet MS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84280" y="3441600"/>
                <a:ext cx="125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Trebuchet MS"/>
                  </a:rPr>
                  <a:t>(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137040" y="3479760"/>
                <a:ext cx="355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308240" y="3537000"/>
              <a:ext cx="784080" cy="580680"/>
              <a:chOff x="1308240" y="3537000"/>
              <a:chExt cx="784080" cy="580680"/>
            </a:xfrm>
          </p:grpSpPr>
          <p:sp>
            <p:nvSpPr>
              <p:cNvPr id="63" name=""/>
              <p:cNvSpPr/>
              <p:nvPr/>
            </p:nvSpPr>
            <p:spPr>
              <a:xfrm>
                <a:off x="1603440" y="3537000"/>
                <a:ext cx="488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 u="sng">
                    <a:solidFill>
                      <a:srgbClr val="000000"/>
                    </a:solidFill>
                    <a:uFillTx/>
                    <a:latin typeface="Trebuchet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rebuchet MS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08240" y="3546360"/>
                <a:ext cx="75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Trebuchet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013280" y="3498840"/>
              <a:ext cx="488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3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rebuchet MS"/>
                </a:rPr>
                <a:t>1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920" y="3546360"/>
              <a:ext cx="488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1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rebuchet MS"/>
                </a:rPr>
                <a:t>5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94080" y="2774880"/>
              <a:ext cx="336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840" y="2793960"/>
              <a:ext cx="3860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b)  Which value below is closest to the value of      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60760" y="31680"/>
            <a:ext cx="66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0280" y="355680"/>
            <a:ext cx="5213520" cy="2446200"/>
            <a:chOff x="260280" y="355680"/>
            <a:chExt cx="5213520" cy="2446200"/>
          </a:xfrm>
        </p:grpSpPr>
        <p:sp>
          <p:nvSpPr>
            <p:cNvPr id="71" name=""/>
            <p:cNvSpPr/>
            <p:nvPr/>
          </p:nvSpPr>
          <p:spPr>
            <a:xfrm>
              <a:off x="260280" y="374760"/>
              <a:ext cx="4394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The value of     correct to 7 decimal places is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22360" y="355680"/>
              <a:ext cx="393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057480" y="885960"/>
              <a:ext cx="1749600" cy="477720"/>
              <a:chOff x="3057480" y="885960"/>
              <a:chExt cx="1749600" cy="477720"/>
            </a:xfrm>
          </p:grpSpPr>
          <p:sp>
            <p:nvSpPr>
              <p:cNvPr id="74" name=""/>
              <p:cNvSpPr/>
              <p:nvPr/>
            </p:nvSpPr>
            <p:spPr>
              <a:xfrm>
                <a:off x="3193920" y="8888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rebuchet MS"/>
                  </a:rPr>
                  <a:t>3.141592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57480" y="885960"/>
                <a:ext cx="1697040" cy="477720"/>
              </a:xfrm>
              <a:custGeom>
                <a:avLst/>
                <a:gdLst/>
                <a:ahLst/>
                <a:rect l="l" t="t" r="r" b="b"/>
                <a:pathLst>
                  <a:path w="1069" h="301">
                    <a:moveTo>
                      <a:pt x="0" y="0"/>
                    </a:moveTo>
                    <a:lnTo>
                      <a:pt x="1068" y="0"/>
                    </a:lnTo>
                    <a:lnTo>
                      <a:pt x="1068" y="300"/>
                    </a:lnTo>
                    <a:lnTo>
                      <a:pt x="0" y="3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98440" y="1812960"/>
              <a:ext cx="5175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(a)  Write the value of     correct to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4 decimal places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5200" y="1784520"/>
              <a:ext cx="393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95640" y="2324160"/>
              <a:ext cx="1697040" cy="477720"/>
            </a:xfrm>
            <a:custGeom>
              <a:avLst/>
              <a:gdLst/>
              <a:ahLst/>
              <a:rect l="l" t="t" r="r" b="b"/>
              <a:pathLst>
                <a:path w="1069" h="301">
                  <a:moveTo>
                    <a:pt x="0" y="0"/>
                  </a:moveTo>
                  <a:lnTo>
                    <a:pt x="1068" y="0"/>
                  </a:lnTo>
                  <a:lnTo>
                    <a:pt x="1068" y="300"/>
                  </a:lnTo>
                  <a:lnTo>
                    <a:pt x="0" y="3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0280" y="374760"/>
            <a:ext cx="439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value of     correct to 7 decimal places i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22360" y="355680"/>
            <a:ext cx="393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76560" y="771480"/>
            <a:ext cx="1749600" cy="477720"/>
            <a:chOff x="3076560" y="771480"/>
            <a:chExt cx="1749600" cy="477720"/>
          </a:xfrm>
        </p:grpSpPr>
        <p:sp>
          <p:nvSpPr>
            <p:cNvPr id="82" name=""/>
            <p:cNvSpPr/>
            <p:nvPr/>
          </p:nvSpPr>
          <p:spPr>
            <a:xfrm>
              <a:off x="3213000" y="77472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rebuchet MS"/>
                </a:rPr>
                <a:t>3.14159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76560" y="771480"/>
              <a:ext cx="1697040" cy="477720"/>
            </a:xfrm>
            <a:custGeom>
              <a:avLst/>
              <a:gdLst/>
              <a:ahLst/>
              <a:rect l="l" t="t" r="r" b="b"/>
              <a:pathLst>
                <a:path w="1069" h="301">
                  <a:moveTo>
                    <a:pt x="0" y="0"/>
                  </a:moveTo>
                  <a:lnTo>
                    <a:pt x="1068" y="0"/>
                  </a:lnTo>
                  <a:lnTo>
                    <a:pt x="1068" y="300"/>
                  </a:lnTo>
                  <a:lnTo>
                    <a:pt x="0" y="3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98440" y="1812960"/>
            <a:ext cx="498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Which value below is closest to the value of     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32480" y="1784520"/>
            <a:ext cx="393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" y="2832120"/>
            <a:ext cx="603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rebuchet MS"/>
              </a:rPr>
              <a:t>17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42120" y="2774880"/>
            <a:ext cx="603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rebuchet MS"/>
              </a:rPr>
              <a:t>3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1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8000" y="2822400"/>
            <a:ext cx="993960" cy="734040"/>
            <a:chOff x="1908000" y="2822400"/>
            <a:chExt cx="993960" cy="734040"/>
          </a:xfrm>
        </p:grpSpPr>
        <p:sp>
          <p:nvSpPr>
            <p:cNvPr id="89" name=""/>
            <p:cNvSpPr/>
            <p:nvPr/>
          </p:nvSpPr>
          <p:spPr>
            <a:xfrm>
              <a:off x="2298600" y="2822400"/>
              <a:ext cx="603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8000" y="2832120"/>
              <a:ext cx="9464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317760" y="2689200"/>
            <a:ext cx="1594080" cy="848520"/>
            <a:chOff x="3317760" y="2689200"/>
            <a:chExt cx="1594080" cy="848520"/>
          </a:xfrm>
        </p:grpSpPr>
        <p:sp>
          <p:nvSpPr>
            <p:cNvPr id="92" name=""/>
            <p:cNvSpPr/>
            <p:nvPr/>
          </p:nvSpPr>
          <p:spPr>
            <a:xfrm>
              <a:off x="3813120" y="2803680"/>
              <a:ext cx="603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 u="sng">
                  <a:solidFill>
                    <a:srgbClr val="000000"/>
                  </a:solidFill>
                  <a:uFillTx/>
                  <a:latin typeface="Trebuchet MS"/>
                </a:rPr>
                <a:t>1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rebuchet MS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17760" y="2689200"/>
              <a:ext cx="159408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700" spc="-1" strike="noStrike">
                  <a:solidFill>
                    <a:srgbClr val="000000"/>
                  </a:solidFill>
                  <a:latin typeface="Trebuchet MS"/>
                </a:rPr>
                <a:t>( )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99120" y="2746440"/>
              <a:ext cx="41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3:16Z</dcterms:created>
  <dc:creator>MDawes</dc:creator>
  <dc:description/>
  <dc:language>en-US</dc:language>
  <cp:lastModifiedBy>MDawes</cp:lastModifiedBy>
  <dcterms:modified xsi:type="dcterms:W3CDTF">2007-07-04T11:43:17Z</dcterms:modified>
  <cp:revision>1</cp:revision>
  <dc:subject/>
  <dc:title>Slide 1</dc:title>
</cp:coreProperties>
</file>