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A3A-3B87-41BE-9022-0B1E3A0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052-0F8B-466D-9285-1AF2509E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006-8D4F-4EE2-8436-52B0EA60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852-D594-464A-854C-3F242CEA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F89-F0D5-424D-983E-5EE933F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6E4-5F89-4128-B1BC-9589E29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6C4-BE02-4954-9CD9-F80B3D4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58E-94B2-479F-BC92-5FA45C9A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C72-89FB-4A5D-A733-FFD4AC78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F2C-19CC-42AD-8A2A-F0A5537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88D-7FC2-4985-A453-81D944F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127-AFC5-4A39-BDE2-95267ED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C6E-FB3B-42F1-B0A4-80BB67F69A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66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0" y="3575160"/>
            <a:ext cx="765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NB - this is from a Calculator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questions can you 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: 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if you have £100 who could go to the concert?  (6 children, or 4 adults, o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many ways are there to work out the answer to part (b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13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Number - Calcula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7080" y="488880"/>
            <a:ext cx="4498920" cy="2931120"/>
            <a:chOff x="127080" y="488880"/>
            <a:chExt cx="4498920" cy="2931120"/>
          </a:xfrm>
        </p:grpSpPr>
        <p:grpSp>
          <p:nvGrpSpPr>
            <p:cNvPr id="46" name=""/>
            <p:cNvGrpSpPr/>
            <p:nvPr/>
          </p:nvGrpSpPr>
          <p:grpSpPr>
            <a:xfrm>
              <a:off x="1481040" y="803160"/>
              <a:ext cx="1932120" cy="831960"/>
              <a:chOff x="1481040" y="803160"/>
              <a:chExt cx="1932120" cy="831960"/>
            </a:xfrm>
          </p:grpSpPr>
          <p:sp>
            <p:nvSpPr>
              <p:cNvPr id="47" name=""/>
              <p:cNvSpPr/>
              <p:nvPr/>
            </p:nvSpPr>
            <p:spPr>
              <a:xfrm>
                <a:off x="1498680" y="803160"/>
                <a:ext cx="18986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Concert ticke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Adults: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£24.50  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Children: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£16.45  ea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81040" y="841320"/>
                <a:ext cx="1932120" cy="793800"/>
              </a:xfrm>
              <a:custGeom>
                <a:avLst/>
                <a:gdLst/>
                <a:ahLst/>
                <a:rect l="l" t="t" r="r" b="b"/>
                <a:pathLst>
                  <a:path w="1217" h="500">
                    <a:moveTo>
                      <a:pt x="0" y="0"/>
                    </a:moveTo>
                    <a:lnTo>
                      <a:pt x="1216" y="0"/>
                    </a:lnTo>
                    <a:lnTo>
                      <a:pt x="1216" y="499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174600" y="1803240"/>
              <a:ext cx="445140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wo adult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go to the concert with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hree childre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Altogether, how much do their tickets cos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b) 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hree adult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go to the concert with some childre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Altogether their tickets cost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£155.7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ow many children went to the concert with the three adult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7080" y="488880"/>
              <a:ext cx="285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ere are the costs of tickets for a concer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75320" y="0"/>
            <a:ext cx="149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nc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1800" y="0"/>
            <a:ext cx="14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nc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280" y="450720"/>
            <a:ext cx="410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are the costs of tickets for a conce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2394000"/>
            <a:ext cx="64324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wo adult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go to the concert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hree childr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Altogether, how much do their tickets cos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hree adult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go to the concert with some childr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Altogether their tickets cost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£155.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many children went to the concert with the three adult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048040" y="917640"/>
            <a:ext cx="2820960" cy="1198440"/>
            <a:chOff x="2048040" y="917640"/>
            <a:chExt cx="2820960" cy="1198440"/>
          </a:xfrm>
        </p:grpSpPr>
        <p:sp>
          <p:nvSpPr>
            <p:cNvPr id="56" name=""/>
            <p:cNvSpPr/>
            <p:nvPr/>
          </p:nvSpPr>
          <p:spPr>
            <a:xfrm>
              <a:off x="2098800" y="917640"/>
              <a:ext cx="27176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Concert ticke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Adults: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£24.50  e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Children: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£16.45  e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8040" y="942840"/>
              <a:ext cx="2820960" cy="1173240"/>
            </a:xfrm>
            <a:custGeom>
              <a:avLst/>
              <a:gdLst/>
              <a:ahLst/>
              <a:rect l="l" t="t" r="r" b="b"/>
              <a:pathLst>
                <a:path w="1777" h="739">
                  <a:moveTo>
                    <a:pt x="0" y="0"/>
                  </a:moveTo>
                  <a:lnTo>
                    <a:pt x="1776" y="0"/>
                  </a:lnTo>
                  <a:lnTo>
                    <a:pt x="1776" y="738"/>
                  </a:lnTo>
                  <a:lnTo>
                    <a:pt x="0" y="7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7:02Z</dcterms:created>
  <dc:creator>MDawes</dc:creator>
  <dc:description/>
  <dc:language>en-US</dc:language>
  <cp:lastModifiedBy>MDawes</cp:lastModifiedBy>
  <dcterms:modified xsi:type="dcterms:W3CDTF">2007-07-04T11:37:03Z</dcterms:modified>
  <cp:revision>1</cp:revision>
  <dc:subject/>
  <dc:title>Slide 1</dc:title>
</cp:coreProperties>
</file>