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351-B4DE-4DDA-8E38-C25576D8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E64-2ADF-4553-844C-E931608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817-ADEC-4B62-908F-B4073A12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B97-94FC-4E5F-B789-9B1A6D6A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567-5D3A-45BE-A216-688273D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C1F-EC35-4D62-93D0-E56E5CC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4A8-C4B6-4FBC-9A2D-46A5326F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217-AE22-47A7-9927-200B5E4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5CA-375B-45D8-A8BD-B4012A1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4F0-63BD-47BB-8DC2-36D5415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0E4-AFD4-4217-AE89-14C8E4D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854-42D5-4FA0-848B-AE327B5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D68D-750F-4378-A44C-E4E0F6CC11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67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1520" y="3032280"/>
            <a:ext cx="56131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The teacher wants a stratified random sample of 7 pupils.  How many Boys and Girls from each class should she take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74760"/>
            <a:ext cx="5130720" cy="2603160"/>
            <a:chOff x="0" y="374760"/>
            <a:chExt cx="5130720" cy="2603160"/>
          </a:xfrm>
        </p:grpSpPr>
        <p:grpSp>
          <p:nvGrpSpPr>
            <p:cNvPr id="46" name=""/>
            <p:cNvGrpSpPr/>
            <p:nvPr/>
          </p:nvGrpSpPr>
          <p:grpSpPr>
            <a:xfrm>
              <a:off x="0" y="765000"/>
              <a:ext cx="5054760" cy="1025640"/>
              <a:chOff x="0" y="765000"/>
              <a:chExt cx="5054760" cy="1025640"/>
            </a:xfrm>
          </p:grpSpPr>
          <p:sp>
            <p:nvSpPr>
              <p:cNvPr id="47" name=""/>
              <p:cNvSpPr/>
              <p:nvPr/>
            </p:nvSpPr>
            <p:spPr>
              <a:xfrm>
                <a:off x="1697040" y="797040"/>
                <a:ext cx="1549440" cy="331560"/>
              </a:xfrm>
              <a:custGeom>
                <a:avLst/>
                <a:gdLst/>
                <a:ahLst/>
                <a:rect l="l" t="t" r="r" b="b"/>
                <a:pathLst>
                  <a:path w="976" h="209">
                    <a:moveTo>
                      <a:pt x="0" y="0"/>
                    </a:moveTo>
                    <a:lnTo>
                      <a:pt x="975" y="0"/>
                    </a:lnTo>
                    <a:lnTo>
                      <a:pt x="975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88960" y="765000"/>
                <a:ext cx="201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rebuchet MS"/>
                  </a:rPr>
                  <a:t>Class 9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44680" y="1127160"/>
                <a:ext cx="1551240" cy="333360"/>
              </a:xfrm>
              <a:custGeom>
                <a:avLst/>
                <a:gdLst/>
                <a:ahLst/>
                <a:rect l="l" t="t" r="r" b="b"/>
                <a:pathLst>
                  <a:path w="977" h="210">
                    <a:moveTo>
                      <a:pt x="0" y="0"/>
                    </a:moveTo>
                    <a:lnTo>
                      <a:pt x="976" y="0"/>
                    </a:lnTo>
                    <a:lnTo>
                      <a:pt x="97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697040" y="1127160"/>
                <a:ext cx="1549440" cy="333360"/>
              </a:xfrm>
              <a:custGeom>
                <a:avLst/>
                <a:gdLst/>
                <a:ahLst/>
                <a:rect l="l" t="t" r="r" b="b"/>
                <a:pathLst>
                  <a:path w="976" h="210">
                    <a:moveTo>
                      <a:pt x="0" y="0"/>
                    </a:moveTo>
                    <a:lnTo>
                      <a:pt x="975" y="0"/>
                    </a:lnTo>
                    <a:lnTo>
                      <a:pt x="975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27280" y="1108080"/>
                <a:ext cx="147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298680" y="1108080"/>
                <a:ext cx="147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44680" y="797040"/>
                <a:ext cx="1551240" cy="331560"/>
              </a:xfrm>
              <a:custGeom>
                <a:avLst/>
                <a:gdLst/>
                <a:ahLst/>
                <a:rect l="l" t="t" r="r" b="b"/>
                <a:pathLst>
                  <a:path w="977" h="209">
                    <a:moveTo>
                      <a:pt x="0" y="0"/>
                    </a:moveTo>
                    <a:lnTo>
                      <a:pt x="976" y="0"/>
                    </a:lnTo>
                    <a:lnTo>
                      <a:pt x="976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41640" y="765000"/>
                <a:ext cx="201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rebuchet MS"/>
                  </a:rPr>
                  <a:t>Class 9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7600" y="1127160"/>
                <a:ext cx="1550880" cy="333360"/>
              </a:xfrm>
              <a:custGeom>
                <a:avLst/>
                <a:gdLst/>
                <a:ahLst/>
                <a:rect l="l" t="t" r="r" b="b"/>
                <a:pathLst>
                  <a:path w="977" h="210">
                    <a:moveTo>
                      <a:pt x="0" y="0"/>
                    </a:moveTo>
                    <a:lnTo>
                      <a:pt x="976" y="0"/>
                    </a:lnTo>
                    <a:lnTo>
                      <a:pt x="976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089000"/>
                <a:ext cx="201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rebuchet MS"/>
                  </a:rPr>
                  <a:t>Boy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44680" y="1459080"/>
                <a:ext cx="1551240" cy="331560"/>
              </a:xfrm>
              <a:custGeom>
                <a:avLst/>
                <a:gdLst/>
                <a:ahLst/>
                <a:rect l="l" t="t" r="r" b="b"/>
                <a:pathLst>
                  <a:path w="977" h="209">
                    <a:moveTo>
                      <a:pt x="0" y="0"/>
                    </a:moveTo>
                    <a:lnTo>
                      <a:pt x="976" y="0"/>
                    </a:lnTo>
                    <a:lnTo>
                      <a:pt x="976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97040" y="1459080"/>
                <a:ext cx="1549440" cy="331560"/>
              </a:xfrm>
              <a:custGeom>
                <a:avLst/>
                <a:gdLst/>
                <a:ahLst/>
                <a:rect l="l" t="t" r="r" b="b"/>
                <a:pathLst>
                  <a:path w="976" h="209">
                    <a:moveTo>
                      <a:pt x="0" y="0"/>
                    </a:moveTo>
                    <a:lnTo>
                      <a:pt x="975" y="0"/>
                    </a:lnTo>
                    <a:lnTo>
                      <a:pt x="975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27280" y="1441440"/>
                <a:ext cx="147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98680" y="1441440"/>
                <a:ext cx="147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7600" y="1459080"/>
                <a:ext cx="1550880" cy="331560"/>
              </a:xfrm>
              <a:custGeom>
                <a:avLst/>
                <a:gdLst/>
                <a:ahLst/>
                <a:rect l="l" t="t" r="r" b="b"/>
                <a:pathLst>
                  <a:path w="977" h="209">
                    <a:moveTo>
                      <a:pt x="0" y="0"/>
                    </a:moveTo>
                    <a:lnTo>
                      <a:pt x="976" y="0"/>
                    </a:lnTo>
                    <a:lnTo>
                      <a:pt x="976" y="208"/>
                    </a:lnTo>
                    <a:lnTo>
                      <a:pt x="0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1422360"/>
                <a:ext cx="2013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rebuchet MS"/>
                  </a:rPr>
                  <a:t>Girl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244680" y="767880"/>
                <a:ext cx="0" cy="358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63360" y="1459080"/>
                <a:ext cx="1633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8920" y="1879560"/>
              <a:ext cx="5041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A teacher is going to choose a pupil at random from each of these class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In which class is she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more likely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to choose a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boy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You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must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show your workin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600" y="374760"/>
              <a:ext cx="4794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The table shows the number of boys and girls in two different class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003640" y="0"/>
            <a:ext cx="218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Which pupi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79840" y="0"/>
            <a:ext cx="21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Which pupi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1840" y="317520"/>
            <a:ext cx="643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table shows the number of boys and girls in two different class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7360" y="2403360"/>
            <a:ext cx="67755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A teacher is going to choose a pupil at random from each of these class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n which class is sh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ore likel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to choose a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bo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You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ust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show your work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838080"/>
            <a:ext cx="6788160" cy="1411560"/>
            <a:chOff x="0" y="838080"/>
            <a:chExt cx="6788160" cy="1411560"/>
          </a:xfrm>
        </p:grpSpPr>
        <p:sp>
          <p:nvSpPr>
            <p:cNvPr id="72" name=""/>
            <p:cNvSpPr/>
            <p:nvPr/>
          </p:nvSpPr>
          <p:spPr>
            <a:xfrm>
              <a:off x="2266920" y="8762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03400" y="851040"/>
              <a:ext cx="267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Trebuchet MS"/>
                </a:rPr>
                <a:t>Class 9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62480" y="13334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6920" y="13334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7400" y="1336680"/>
              <a:ext cx="1955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1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51400" y="1336680"/>
              <a:ext cx="1955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1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62480" y="8762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08320" y="851040"/>
              <a:ext cx="267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Trebuchet MS"/>
                </a:rPr>
                <a:t>Class 9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1360" y="13334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308240"/>
              <a:ext cx="267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Trebuchet MS"/>
                </a:rPr>
                <a:t>Bo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62480" y="17906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66920" y="17906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7400" y="1793880"/>
              <a:ext cx="1955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1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51400" y="1793880"/>
              <a:ext cx="1955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1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1360" y="1790640"/>
              <a:ext cx="2097000" cy="459000"/>
            </a:xfrm>
            <a:custGeom>
              <a:avLst/>
              <a:gdLst/>
              <a:ahLst/>
              <a:rect l="l" t="t" r="r" b="b"/>
              <a:pathLst>
                <a:path w="1321" h="289">
                  <a:moveTo>
                    <a:pt x="0" y="0"/>
                  </a:moveTo>
                  <a:lnTo>
                    <a:pt x="1320" y="0"/>
                  </a:lnTo>
                  <a:lnTo>
                    <a:pt x="1320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765440"/>
              <a:ext cx="267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Trebuchet MS"/>
                </a:rPr>
                <a:t>Girl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362480" y="838080"/>
              <a:ext cx="0" cy="495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7240" y="1790640"/>
              <a:ext cx="2209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8:42Z</dcterms:created>
  <dc:creator>MDawes</dc:creator>
  <dc:description/>
  <dc:language>en-US</dc:language>
  <cp:lastModifiedBy>MDawes</cp:lastModifiedBy>
  <dcterms:modified xsi:type="dcterms:W3CDTF">2007-07-05T00:28:43Z</dcterms:modified>
  <cp:revision>1</cp:revision>
  <dc:subject/>
  <dc:title>Slide 1</dc:title>
</cp:coreProperties>
</file>