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2388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728-41B2-4765-ABFB-AD1D2AD8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8760"/>
            <a:ext cx="68580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55480"/>
            <a:ext cx="68580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606480"/>
            <a:ext cx="68580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0A6-F4C2-4D7C-AC2A-FB223220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8760"/>
            <a:ext cx="68580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55480"/>
            <a:ext cx="334656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55480"/>
            <a:ext cx="334656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606480"/>
            <a:ext cx="334656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606480"/>
            <a:ext cx="334656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F01-AA96-4EFD-A801-141D702D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8760"/>
            <a:ext cx="68580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55480"/>
            <a:ext cx="220788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55480"/>
            <a:ext cx="220788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55480"/>
            <a:ext cx="220788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606480"/>
            <a:ext cx="220788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606480"/>
            <a:ext cx="220788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606480"/>
            <a:ext cx="220788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933-044E-4476-95E5-9BD850DB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8760"/>
            <a:ext cx="68580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55480"/>
            <a:ext cx="68580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FFF-A95E-4C43-88ED-0099C7F6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8760"/>
            <a:ext cx="68580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55480"/>
            <a:ext cx="68580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BC9-D7D5-43F3-9A45-911251C0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8760"/>
            <a:ext cx="68580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55480"/>
            <a:ext cx="334656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55480"/>
            <a:ext cx="334656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30F-3B88-4B71-8216-22C6B42A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8760"/>
            <a:ext cx="68580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E04-3861-484C-9420-475BCD14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8760"/>
            <a:ext cx="685800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31D-079F-48D3-8808-A60A12A0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8760"/>
            <a:ext cx="68580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55480"/>
            <a:ext cx="334656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55480"/>
            <a:ext cx="334656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606480"/>
            <a:ext cx="334656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7C0-30F3-4627-9A48-96F2956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8760"/>
            <a:ext cx="68580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55480"/>
            <a:ext cx="334656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55480"/>
            <a:ext cx="334656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606480"/>
            <a:ext cx="334656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203-9FAD-482D-8D09-C635D333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8760"/>
            <a:ext cx="68580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55480"/>
            <a:ext cx="334656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55480"/>
            <a:ext cx="334656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606480"/>
            <a:ext cx="68580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39D-D958-4381-99A4-F0EC078B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8760"/>
            <a:ext cx="68580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55480"/>
            <a:ext cx="68580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681520"/>
            <a:ext cx="17780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681520"/>
            <a:ext cx="2413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681520"/>
            <a:ext cx="17780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278B-4D76-4873-B15D-8597688CCB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6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71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Alg - substitu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80" y="4260960"/>
            <a:ext cx="77086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Change the numbers on the diagram and repeat the proces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Can you find numbers for d and w such that the load supported by the 1st way is double that supported by the 2nd wa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Write an algebraic expression for the difference.  Factorise fu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1680" y="403200"/>
            <a:ext cx="5651640" cy="3905280"/>
            <a:chOff x="31680" y="403200"/>
            <a:chExt cx="5651640" cy="39052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71880" y="2870280"/>
              <a:ext cx="1422360" cy="96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96760" y="2765520"/>
              <a:ext cx="121788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312840" y="1752480"/>
              <a:ext cx="492588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1495440" y="892080"/>
              <a:ext cx="2646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0760" y="3879720"/>
              <a:ext cx="4375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In which way will the beam be able to support the greater load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Calculate the differenc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8000" y="2489040"/>
              <a:ext cx="435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I can place the cross-section of the beam in two different way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1365120"/>
              <a:ext cx="565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The formula below gives the greatest load, M kg, that a beam of this length can support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760" y="403200"/>
              <a:ext cx="35751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I am going to use a wooden beam to support a loa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The cross-section of the beam is a rectangl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670720" y="0"/>
            <a:ext cx="126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B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37040" y="0"/>
            <a:ext cx="126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B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80" y="184320"/>
            <a:ext cx="4794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I am going to use a wooden beam to support a loa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e cross-section of the beam is a rectang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680" y="1498680"/>
            <a:ext cx="7594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e formula below gives the greatest load, M kg, that a beam of this length can suppor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6440" y="3032280"/>
            <a:ext cx="5861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I can place the cross-section of the beam in two different way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480" y="4927680"/>
            <a:ext cx="5879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In which way will the beam be able to support the greater loa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Calculate the differen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90800" y="828720"/>
            <a:ext cx="3581280" cy="68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0600" y="2000160"/>
            <a:ext cx="666756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81160" y="3381480"/>
            <a:ext cx="1647720" cy="159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124160" y="3524400"/>
            <a:ext cx="19242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26:14Z</dcterms:created>
  <dc:creator>MDawes</dc:creator>
  <dc:description/>
  <dc:language>en-US</dc:language>
  <cp:lastModifiedBy>MDawes</cp:lastModifiedBy>
  <dcterms:modified xsi:type="dcterms:W3CDTF">2007-07-05T00:26:15Z</dcterms:modified>
  <cp:revision>1</cp:revision>
  <dc:subject/>
  <dc:title>Slide 1</dc:title>
</cp:coreProperties>
</file>