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BD6-D90A-4C62-9BF0-F62DBBB7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04A-6A16-4FE3-9EE8-B9FF4EFC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19FE-7130-414E-8556-D286014A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9F72-2758-4180-A702-A01CEC28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8D6C-2B3E-4627-83F5-526B70B9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D9C3-11E3-4F03-B51B-B2B48704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BFD-1BC2-4120-BC27-B1329B3F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5733-8FCF-4330-A6CF-999C2FD6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DF77-1E42-4E35-B0EC-F1C15A74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8DCC-5BD2-4808-97F9-9848F76D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22D8-BF02-49AF-8306-0504C3FF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9BD5-C730-4EC3-9B1E-C8ED9872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67C1-C296-4DF0-AED1-CC2A3DF4A4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18480" y="12600"/>
            <a:ext cx="660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85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4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400" spc="-1" strike="noStrike">
                <a:solidFill>
                  <a:srgbClr val="4b0082"/>
                </a:solidFill>
                <a:latin typeface="Trebuchet MS"/>
              </a:rPr>
              <a:t>Num - perce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480" y="2727360"/>
            <a:ext cx="75373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If the number of gorillas falls by 70% </a:t>
            </a:r>
            <a:r>
              <a:rPr b="0" lang="en-GB" sz="1700" spc="-1" strike="noStrike" u="sng">
                <a:solidFill>
                  <a:srgbClr val="800080"/>
                </a:solidFill>
                <a:uFillTx/>
                <a:latin typeface="Trebuchet MS"/>
              </a:rPr>
              <a:t>every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10 years, how many gorillas will there be in 20 years time?  In this situation how many were there 30 years ago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88920" y="507960"/>
            <a:ext cx="5556240" cy="1590840"/>
            <a:chOff x="88920" y="507960"/>
            <a:chExt cx="5556240" cy="1590840"/>
          </a:xfrm>
        </p:grpSpPr>
        <p:sp>
          <p:nvSpPr>
            <p:cNvPr id="46" name=""/>
            <p:cNvSpPr/>
            <p:nvPr/>
          </p:nvSpPr>
          <p:spPr>
            <a:xfrm>
              <a:off x="108000" y="1822320"/>
              <a:ext cx="538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rebuchet MS"/>
                </a:rPr>
                <a:t>About how many gorillas were there in this country ten years earlier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582480" y="965160"/>
              <a:ext cx="5005440" cy="676440"/>
              <a:chOff x="582480" y="965160"/>
              <a:chExt cx="5005440" cy="676440"/>
            </a:xfrm>
          </p:grpSpPr>
          <p:sp>
            <p:nvSpPr>
              <p:cNvPr id="48" name=""/>
              <p:cNvSpPr/>
              <p:nvPr/>
            </p:nvSpPr>
            <p:spPr>
              <a:xfrm>
                <a:off x="698400" y="1012680"/>
                <a:ext cx="4889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rebuchet MS"/>
                  </a:rPr>
                  <a:t>The number of gorillas has 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Trebuchet MS"/>
                  </a:rPr>
                  <a:t>fallen by 70%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Trebuchet MS"/>
                  </a:rPr>
                  <a:t> in the last ten years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rebuchet MS"/>
                  </a:rPr>
                  <a:t>Only about 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Trebuchet MS"/>
                  </a:rPr>
                  <a:t>5000 gorillas 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Trebuchet MS"/>
                  </a:rPr>
                  <a:t>are left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2480" y="965160"/>
                <a:ext cx="4915080" cy="676440"/>
              </a:xfrm>
              <a:custGeom>
                <a:avLst/>
                <a:gdLst/>
                <a:ahLst/>
                <a:rect l="l" t="t" r="r" b="b"/>
                <a:pathLst>
                  <a:path w="3096" h="426">
                    <a:moveTo>
                      <a:pt x="0" y="0"/>
                    </a:moveTo>
                    <a:lnTo>
                      <a:pt x="3095" y="0"/>
                    </a:lnTo>
                    <a:lnTo>
                      <a:pt x="3095" y="425"/>
                    </a:lnTo>
                    <a:lnTo>
                      <a:pt x="0" y="425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88920" y="507960"/>
              <a:ext cx="5556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rebuchet MS"/>
                </a:rPr>
                <a:t>Here is part of a newspaper report about wildlife in a country in Afric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346720" y="0"/>
            <a:ext cx="142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Goril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79840" y="0"/>
            <a:ext cx="142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Goril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" y="326880"/>
            <a:ext cx="6756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Here is part of a newspaper report about wildlife in a country in Afric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90400" y="885960"/>
            <a:ext cx="6093000" cy="849240"/>
            <a:chOff x="590400" y="885960"/>
            <a:chExt cx="6093000" cy="849240"/>
          </a:xfrm>
        </p:grpSpPr>
        <p:sp>
          <p:nvSpPr>
            <p:cNvPr id="55" name=""/>
            <p:cNvSpPr/>
            <p:nvPr/>
          </p:nvSpPr>
          <p:spPr>
            <a:xfrm>
              <a:off x="746280" y="965160"/>
              <a:ext cx="59371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The number of gorillas has </a:t>
              </a:r>
              <a:r>
                <a:rPr b="1" lang="en-GB" sz="1500" spc="-1" strike="noStrike">
                  <a:solidFill>
                    <a:srgbClr val="000000"/>
                  </a:solidFill>
                  <a:latin typeface="Trebuchet MS"/>
                </a:rPr>
                <a:t>fallen by 70%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 in the last ten year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Only about </a:t>
              </a:r>
              <a:r>
                <a:rPr b="1" lang="en-GB" sz="1500" spc="-1" strike="noStrike">
                  <a:solidFill>
                    <a:srgbClr val="000000"/>
                  </a:solidFill>
                  <a:latin typeface="Trebuchet MS"/>
                </a:rPr>
                <a:t>5000 gorillas 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are left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0400" y="885960"/>
              <a:ext cx="5992920" cy="849240"/>
            </a:xfrm>
            <a:custGeom>
              <a:avLst/>
              <a:gdLst/>
              <a:ahLst/>
              <a:rect l="l" t="t" r="r" b="b"/>
              <a:pathLst>
                <a:path w="3775" h="535">
                  <a:moveTo>
                    <a:pt x="0" y="0"/>
                  </a:moveTo>
                  <a:lnTo>
                    <a:pt x="3774" y="0"/>
                  </a:lnTo>
                  <a:lnTo>
                    <a:pt x="3774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320" y="1984320"/>
            <a:ext cx="654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About how many gorillas were there in this country ten years earli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29:42Z</dcterms:created>
  <dc:creator>MDawes</dc:creator>
  <dc:description/>
  <dc:language>en-US</dc:language>
  <cp:lastModifiedBy>MDawes</cp:lastModifiedBy>
  <dcterms:modified xsi:type="dcterms:W3CDTF">2007-07-05T00:29:43Z</dcterms:modified>
  <cp:revision>1</cp:revision>
  <dc:subject/>
  <dc:title>Slide 1</dc:title>
</cp:coreProperties>
</file>