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482-2788-4ADF-B8BF-7FEAC244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A15-36C4-490A-9155-E0DC2C0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691-E5D1-44E8-98A9-3F9F2696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334-510E-4CBC-9774-1F384D38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013-2A8A-4F85-8BE3-D2F50F26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D14-6A93-48B9-9BB0-FE4603F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FC3-DAD8-43DD-B3FC-2BDF0ECA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D21-A44D-4A5E-A3A1-7EB50701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FD5-A710-4CEB-A5F8-C3A9F96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879-E124-4066-9101-506E0D9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B36-16D4-4596-972B-B3B306C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030-CDB7-4039-A9A9-BBF15E2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FD1-DD76-4A66-B74D-E1FEF881B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66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3394080"/>
            <a:ext cx="727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changes could we make to the ques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: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hat other sequences (with rules like these) start 2, 5, ...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hat if we start with 2, 6, ...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1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equ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8920" y="460440"/>
            <a:ext cx="3308400" cy="3453480"/>
            <a:chOff x="88920" y="460440"/>
            <a:chExt cx="3308400" cy="3453480"/>
          </a:xfrm>
        </p:grpSpPr>
        <p:grpSp>
          <p:nvGrpSpPr>
            <p:cNvPr id="46" name=""/>
            <p:cNvGrpSpPr/>
            <p:nvPr/>
          </p:nvGrpSpPr>
          <p:grpSpPr>
            <a:xfrm>
              <a:off x="281160" y="2556000"/>
              <a:ext cx="2725560" cy="1357920"/>
              <a:chOff x="281160" y="2556000"/>
              <a:chExt cx="2725560" cy="1357920"/>
            </a:xfrm>
          </p:grpSpPr>
          <p:sp>
            <p:nvSpPr>
              <p:cNvPr id="47" name=""/>
              <p:cNvSpPr/>
              <p:nvPr/>
            </p:nvSpPr>
            <p:spPr>
              <a:xfrm>
                <a:off x="365040" y="2556000"/>
                <a:ext cx="2641680" cy="13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Rule: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Multiply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the last number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by 3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hen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subtract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4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81160" y="2568600"/>
                <a:ext cx="2635200" cy="614160"/>
              </a:xfrm>
              <a:custGeom>
                <a:avLst/>
                <a:gdLst/>
                <a:ahLst/>
                <a:rect l="l" t="t" r="r" b="b"/>
                <a:pathLst>
                  <a:path w="1660" h="387">
                    <a:moveTo>
                      <a:pt x="0" y="0"/>
                    </a:moveTo>
                    <a:lnTo>
                      <a:pt x="1659" y="0"/>
                    </a:lnTo>
                    <a:lnTo>
                      <a:pt x="1659" y="386"/>
                    </a:lnTo>
                    <a:lnTo>
                      <a:pt x="0" y="38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1160" y="2782800"/>
                <a:ext cx="263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81160" y="1793880"/>
              <a:ext cx="2687400" cy="1220760"/>
              <a:chOff x="281160" y="1793880"/>
              <a:chExt cx="2687400" cy="1220760"/>
            </a:xfrm>
          </p:grpSpPr>
          <p:sp>
            <p:nvSpPr>
              <p:cNvPr id="51" name=""/>
              <p:cNvSpPr/>
              <p:nvPr/>
            </p:nvSpPr>
            <p:spPr>
              <a:xfrm>
                <a:off x="441360" y="1793880"/>
                <a:ext cx="2527200" cy="12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Rule: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Double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 the last number then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add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11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160" y="1811160"/>
                <a:ext cx="2635200" cy="614520"/>
              </a:xfrm>
              <a:custGeom>
                <a:avLst/>
                <a:gdLst/>
                <a:ahLst/>
                <a:rect l="l" t="t" r="r" b="b"/>
                <a:pathLst>
                  <a:path w="1660" h="387">
                    <a:moveTo>
                      <a:pt x="0" y="0"/>
                    </a:moveTo>
                    <a:lnTo>
                      <a:pt x="1659" y="0"/>
                    </a:lnTo>
                    <a:lnTo>
                      <a:pt x="1659" y="386"/>
                    </a:lnTo>
                    <a:lnTo>
                      <a:pt x="0" y="38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1160" y="2025720"/>
                <a:ext cx="263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281160" y="1041480"/>
              <a:ext cx="2687400" cy="1220760"/>
              <a:chOff x="281160" y="1041480"/>
              <a:chExt cx="2687400" cy="1220760"/>
            </a:xfrm>
          </p:grpSpPr>
          <p:sp>
            <p:nvSpPr>
              <p:cNvPr id="55" name=""/>
              <p:cNvSpPr/>
              <p:nvPr/>
            </p:nvSpPr>
            <p:spPr>
              <a:xfrm>
                <a:off x="441360" y="1041480"/>
                <a:ext cx="2527200" cy="12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Rule: 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Trebuchet MS"/>
                  </a:rPr>
                  <a:t>Add 3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Trebuchet MS"/>
                  </a:rPr>
                  <a:t>to the last numb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</a:rPr>
                  <a:t>_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1160" y="1060560"/>
                <a:ext cx="2635200" cy="614160"/>
              </a:xfrm>
              <a:custGeom>
                <a:avLst/>
                <a:gdLst/>
                <a:ahLst/>
                <a:rect l="l" t="t" r="r" b="b"/>
                <a:pathLst>
                  <a:path w="1660" h="387">
                    <a:moveTo>
                      <a:pt x="0" y="0"/>
                    </a:moveTo>
                    <a:lnTo>
                      <a:pt x="1659" y="0"/>
                    </a:lnTo>
                    <a:lnTo>
                      <a:pt x="1659" y="386"/>
                    </a:lnTo>
                    <a:lnTo>
                      <a:pt x="0" y="38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1160" y="1274760"/>
                <a:ext cx="263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8920" y="460440"/>
              <a:ext cx="33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rebuchet MS"/>
                </a:rPr>
                <a:t>Each rule below makes a sequ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rebuchet MS"/>
                </a:rPr>
                <a:t>Use the rule to write the </a:t>
              </a:r>
              <a:r>
                <a:rPr b="1" lang="en-GB" sz="900" spc="-1" strike="noStrike">
                  <a:solidFill>
                    <a:srgbClr val="000000"/>
                  </a:solidFill>
                  <a:latin typeface="Trebuchet MS"/>
                </a:rPr>
                <a:t>next two numbers</a:t>
              </a:r>
              <a:r>
                <a:rPr b="0" lang="en-GB" sz="900" spc="-1" strike="noStrike">
                  <a:solidFill>
                    <a:srgbClr val="000000"/>
                  </a:solidFill>
                  <a:latin typeface="Trebuchet MS"/>
                </a:rPr>
                <a:t> for each sequ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003640" y="0"/>
            <a:ext cx="115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1800" y="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480" y="260280"/>
            <a:ext cx="599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Each rule below makes a sequen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Use the rule to write th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next two number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for each sequen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800" y="1324080"/>
            <a:ext cx="4911840" cy="1334160"/>
            <a:chOff x="361800" y="1324080"/>
            <a:chExt cx="4911840" cy="1334160"/>
          </a:xfrm>
        </p:grpSpPr>
        <p:sp>
          <p:nvSpPr>
            <p:cNvPr id="63" name=""/>
            <p:cNvSpPr/>
            <p:nvPr/>
          </p:nvSpPr>
          <p:spPr>
            <a:xfrm>
              <a:off x="708120" y="1346040"/>
              <a:ext cx="45655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Rule: 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Add 3 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to the last 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1800" y="1324080"/>
              <a:ext cx="4859640" cy="1144440"/>
            </a:xfrm>
            <a:custGeom>
              <a:avLst/>
              <a:gdLst/>
              <a:ahLst/>
              <a:rect l="l" t="t" r="r" b="b"/>
              <a:pathLst>
                <a:path w="3061" h="721">
                  <a:moveTo>
                    <a:pt x="0" y="0"/>
                  </a:moveTo>
                  <a:lnTo>
                    <a:pt x="3060" y="0"/>
                  </a:lnTo>
                  <a:lnTo>
                    <a:pt x="3060" y="720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800" y="1724040"/>
              <a:ext cx="48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61800" y="2724120"/>
            <a:ext cx="4911840" cy="1334520"/>
            <a:chOff x="361800" y="2724120"/>
            <a:chExt cx="4911840" cy="1334520"/>
          </a:xfrm>
        </p:grpSpPr>
        <p:sp>
          <p:nvSpPr>
            <p:cNvPr id="67" name=""/>
            <p:cNvSpPr/>
            <p:nvPr/>
          </p:nvSpPr>
          <p:spPr>
            <a:xfrm>
              <a:off x="708120" y="2746440"/>
              <a:ext cx="45655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Rule: 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Double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the last number then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ad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11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1800" y="2724120"/>
              <a:ext cx="4859640" cy="1144440"/>
            </a:xfrm>
            <a:custGeom>
              <a:avLst/>
              <a:gdLst/>
              <a:ahLst/>
              <a:rect l="l" t="t" r="r" b="b"/>
              <a:pathLst>
                <a:path w="3061" h="721">
                  <a:moveTo>
                    <a:pt x="0" y="0"/>
                  </a:moveTo>
                  <a:lnTo>
                    <a:pt x="3060" y="0"/>
                  </a:lnTo>
                  <a:lnTo>
                    <a:pt x="3060" y="720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1800" y="3124080"/>
              <a:ext cx="48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1800" y="4133880"/>
            <a:ext cx="4978440" cy="1343880"/>
            <a:chOff x="361800" y="4133880"/>
            <a:chExt cx="4978440" cy="1343880"/>
          </a:xfrm>
        </p:grpSpPr>
        <p:sp>
          <p:nvSpPr>
            <p:cNvPr id="71" name=""/>
            <p:cNvSpPr/>
            <p:nvPr/>
          </p:nvSpPr>
          <p:spPr>
            <a:xfrm>
              <a:off x="565200" y="4165560"/>
              <a:ext cx="47750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Rule: 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Multiply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the last number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by 3 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then </a:t>
              </a: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</a:rPr>
                <a:t>subtrac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14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2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2600" spc="-1" strike="noStrike">
                  <a:solidFill>
                    <a:srgbClr val="000000"/>
                  </a:solidFill>
                  <a:latin typeface="Trebuchet MS"/>
                </a:rPr>
                <a:t>__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1800" y="4133880"/>
              <a:ext cx="4859640" cy="1144440"/>
            </a:xfrm>
            <a:custGeom>
              <a:avLst/>
              <a:gdLst/>
              <a:ahLst/>
              <a:rect l="l" t="t" r="r" b="b"/>
              <a:pathLst>
                <a:path w="3061" h="721">
                  <a:moveTo>
                    <a:pt x="0" y="0"/>
                  </a:moveTo>
                  <a:lnTo>
                    <a:pt x="3060" y="0"/>
                  </a:lnTo>
                  <a:lnTo>
                    <a:pt x="3060" y="720"/>
                  </a:lnTo>
                  <a:lnTo>
                    <a:pt x="0" y="7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1800" y="4533840"/>
              <a:ext cx="48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6:54Z</dcterms:created>
  <dc:creator>MDawes</dc:creator>
  <dc:description/>
  <dc:language>en-US</dc:language>
  <cp:lastModifiedBy>MDawes</cp:lastModifiedBy>
  <dcterms:modified xsi:type="dcterms:W3CDTF">2007-07-04T11:36:55Z</dcterms:modified>
  <cp:revision>1</cp:revision>
  <dc:subject/>
  <dc:title>Slide 1</dc:title>
</cp:coreProperties>
</file>